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40C1-DEF9-45EC-9C67-AD75444D8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CB08-6592-4639-A6FF-A07BFF972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E14B-6335-4E23-BB4A-754D644CD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379B-B7F8-45C3-AD83-628F0C0C4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A744-2E1B-4F40-89C7-821E2FA8C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879-21BB-4793-A056-BE1364FE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1226-C834-4923-BC47-370C38AC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5D6A-8ED3-4C68-B0A5-3793B04A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188D-2ECC-4DBD-B6D5-F9C3CEA6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F9AE-2E54-418D-B623-FF2C9547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18D-6FBA-4ECA-8DA4-54F1BE35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E669-72E0-4004-BAFB-FA33F6F6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76DC-D6A0-46A4-BF79-40F74391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34D-12EF-4DB6-A838-2FB01D98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3033-6DF0-40B7-8E33-89EE5740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7CDA-1947-4F87-8F5B-D922952B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B8B-CAC4-43C5-9774-050C4E36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013B-8367-41C0-AC4E-E890B0690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satoday.com/news/education/2009-03-04-core-knowledge_N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228600" y="4572000"/>
            <a:ext cx="8686800" cy="56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"We need kids who don't just do what they're told but who are self-directed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Ken Kay, Partnership for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Century Skills ~ </a:t>
            </a: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USA Today,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ch 4, 2009 ~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290600" y="0"/>
            <a:ext cx="6786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0" t="7001" r="16252" b="4998"/>
          <a:stretch/>
        </p:blipFill>
        <p:spPr>
          <a:xfrm>
            <a:off x="17640" y="0"/>
            <a:ext cx="9050040" cy="5943600"/>
          </a:xfrm>
          <a:prstGeom prst="rect">
            <a:avLst/>
          </a:prstGeom>
          <a:ln w="0">
            <a:noFill/>
          </a:ln>
        </p:spPr>
      </p:pic>
      <p:grpSp>
        <p:nvGrpSpPr>
          <p:cNvPr id="83" name="Rectangle 2"/>
          <p:cNvGrpSpPr/>
          <p:nvPr/>
        </p:nvGrpSpPr>
        <p:grpSpPr>
          <a:xfrm>
            <a:off x="1603440" y="5962680"/>
            <a:ext cx="5921640" cy="743040"/>
            <a:chOff x="1603440" y="5962680"/>
            <a:chExt cx="5921640" cy="743040"/>
          </a:xfrm>
        </p:grpSpPr>
        <p:pic>
          <p:nvPicPr>
            <p:cNvPr id="84" name="Rectangle 2" descr=""/>
            <p:cNvPicPr/>
            <p:nvPr/>
          </p:nvPicPr>
          <p:blipFill>
            <a:blip r:embed="rId2"/>
            <a:stretch/>
          </p:blipFill>
          <p:spPr>
            <a:xfrm>
              <a:off x="1616040" y="5962680"/>
              <a:ext cx="58579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603440" y="6075360"/>
              <a:ext cx="5921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Gill Sans MT"/>
                </a:rPr>
                <a:t>http://remc12.wikispaces.com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18124" t="15000" r="16252" b="4002"/>
          <a:stretch/>
        </p:blipFill>
        <p:spPr>
          <a:xfrm>
            <a:off x="533520" y="380880"/>
            <a:ext cx="8001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Valued Customer\AppData\Local\Microsoft\Windows\Temporary Internet Files\Content.IE5\MF04FO1S\MPj04224860000[1].jpg"/>
          <p:cNvPicPr/>
          <p:nvPr/>
        </p:nvPicPr>
        <p:blipFill>
          <a:blip r:embed="rId1"/>
          <a:stretch/>
        </p:blipFill>
        <p:spPr>
          <a:xfrm>
            <a:off x="0" y="-944640"/>
            <a:ext cx="9753480" cy="780264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2514600" y="5715000"/>
            <a:ext cx="7620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Gill Sans MT"/>
              </a:rPr>
              <a:t>{ice cream break}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Valued Customer\AppData\Local\Microsoft\Windows\Temporary Internet Files\Content.IE5\CII5TUUQ\MPj03417750000[1].jpg"/>
          <p:cNvPicPr/>
          <p:nvPr/>
        </p:nvPicPr>
        <p:blipFill>
          <a:blip r:embed="rId1"/>
          <a:stretch/>
        </p:blipFill>
        <p:spPr>
          <a:xfrm>
            <a:off x="-466560" y="0"/>
            <a:ext cx="96105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-76320" y="0"/>
            <a:ext cx="3124440" cy="6858000"/>
          </a:xfrm>
          <a:prstGeom prst="rect">
            <a:avLst/>
          </a:prstGeom>
          <a:solidFill>
            <a:srgbClr val="1e1c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ill Sans MT"/>
              </a:rPr>
              <a:t>Remember back on Friday night when we looked at the Colorado Learner’s Bill of Rights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ill Sans MT"/>
              </a:rPr>
              <a:t>Now it’s your tur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 rot="16200000">
            <a:off x="-2896560" y="2833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olorado Learner’s Bill of Righ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219320" y="228600"/>
            <a:ext cx="76960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The learner has the right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.   question and be curiou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.   have personal idea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.   choose how to learn and share understand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.   plan and participate in learning at a level that’s appropri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.   grapple with challenging ideas or concep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6.   access the information and resources nee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7.   participate in and contribute to a learning net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8.   think critically, solve problems and make decis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9.   make mistakes and learn from them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0.  reflect on learning.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Gill Sans MT"/>
              </a:rPr>
              <a:t>(http://casl.wordpress.com/2008/11/08/colorado-learners-bill-of-rights/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C:\Users\Valued Customer\AppData\Local\Microsoft\Windows\Temporary Internet Files\Content.IE5\CII5TUUQ\MPj01490170000[1].jpg"/>
          <p:cNvPicPr/>
          <p:nvPr/>
        </p:nvPicPr>
        <p:blipFill>
          <a:blip r:embed="rId1"/>
          <a:stretch/>
        </p:blipFill>
        <p:spPr>
          <a:xfrm>
            <a:off x="304920" y="1422360"/>
            <a:ext cx="8153280" cy="5435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nk like an entrepreneur ... 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hat message do your students/teachers/administrators need to hear in order to bridge the perception ga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Valued Customer\AppData\Local\Microsoft\Windows\Temporary Internet Files\Content.IE5\CII5TUUQ\MPj04392430000[1].jpg"/>
          <p:cNvPicPr/>
          <p:nvPr/>
        </p:nvPicPr>
        <p:blipFill>
          <a:blip r:embed="rId1"/>
          <a:srcRect l="0" t="21161" r="0" b="51781"/>
          <a:stretch/>
        </p:blipFill>
        <p:spPr>
          <a:xfrm>
            <a:off x="0" y="0"/>
            <a:ext cx="9144000" cy="16574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228600" y="1752480"/>
            <a:ext cx="84582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Gill Sans MT"/>
              </a:rPr>
              <a:t>Your Tas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Use the conversations we’ve had to create a poster that might bridge that gap.  What is your manifesto about your relationship to student learn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eed a starting point? Consider these poster tit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hat Your Library Can Do For You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hat You Can Expect From Your School Library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e Can Help You Learn By ____________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0" y="0"/>
            <a:ext cx="8686800" cy="73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Gill Sans MT"/>
                <a:ea typeface="Aharoni"/>
              </a:rPr>
              <a:t>Hit the Ground Run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School Library Media Activities Monthly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magaz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SLMAM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bl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http://blog.schoollibrarymedia.c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Knowledge Quest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jour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(free with ALA/AASL membership 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available through mel.or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Teacher Librarian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magaz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Infomancy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Blog by Christopher Harr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http://schoolof.info/infomancy/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Valued Customer\AppData\Local\Microsoft\Windows\Temporary Internet Files\Content.IE5\CII5TUUQ\MPj04097570000[1].jpg"/>
          <p:cNvPicPr/>
          <p:nvPr/>
        </p:nvPicPr>
        <p:blipFill>
          <a:blip r:embed="rId1"/>
          <a:srcRect l="14173" t="0" r="10644" b="0"/>
          <a:stretch/>
        </p:blipFill>
        <p:spPr>
          <a:xfrm>
            <a:off x="701028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11876" t="13001" r="38126" b="6000"/>
          <a:stretch/>
        </p:blipFill>
        <p:spPr>
          <a:xfrm>
            <a:off x="1523880" y="228600"/>
            <a:ext cx="6096240" cy="6172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5638320" y="648828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USA Today,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ch 4, 2009 ~ 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Valued Customer\AppData\Local\Microsoft\Windows\Temporary Internet Files\Content.IE5\33L5Q479\MPj04101500000[1].jpg"/>
          <p:cNvPicPr/>
          <p:nvPr/>
        </p:nvPicPr>
        <p:blipFill>
          <a:blip r:embed="rId1"/>
          <a:stretch/>
        </p:blipFill>
        <p:spPr>
          <a:xfrm>
            <a:off x="-1158840" y="0"/>
            <a:ext cx="1030284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rcRect l="13379" t="22124" r="66876" b="49001"/>
          <a:stretch/>
        </p:blipFill>
        <p:spPr>
          <a:xfrm>
            <a:off x="-1440" y="1295280"/>
            <a:ext cx="5335560" cy="4876920"/>
          </a:xfrm>
          <a:prstGeom prst="rect">
            <a:avLst/>
          </a:prstGeom>
          <a:ln w="9360">
            <a:solidFill>
              <a:srgbClr val="953735"/>
            </a:solidFill>
            <a:miter/>
          </a:ln>
          <a:effectLst>
            <a:outerShdw dist="38183" dir="135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54" name="Rectangle 2"/>
          <p:cNvSpPr/>
          <p:nvPr/>
        </p:nvSpPr>
        <p:spPr>
          <a:xfrm>
            <a:off x="5309640" y="624852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USA Today,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ch 4, 2009 ~ 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-685800" y="236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You don’t have to make this choic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ood educational practice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requires bo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rcRect l="25627" t="20003" r="51250" b="30000"/>
          <a:stretch/>
        </p:blipFill>
        <p:spPr>
          <a:xfrm>
            <a:off x="4114800" y="61920"/>
            <a:ext cx="5029200" cy="6796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152280" y="6477120"/>
            <a:ext cx="388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Image: http://www.imdb.com/media/rm3534920960/tt0390521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228600" y="148896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On to the SuperSizing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52280" y="76320"/>
            <a:ext cx="8229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 MT"/>
                <a:ea typeface="Aharoni"/>
              </a:rPr>
              <a:t>Digging into the four standard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Valued Customer\AppData\Local\Microsoft\Windows\Temporary Internet Files\Content.IE5\33L5Q479\MPj04385860000[1].jpg"/>
          <p:cNvPicPr/>
          <p:nvPr/>
        </p:nvPicPr>
        <p:blipFill>
          <a:blip r:embed="rId2"/>
          <a:stretch/>
        </p:blipFill>
        <p:spPr>
          <a:xfrm>
            <a:off x="2743200" y="1676520"/>
            <a:ext cx="6400800" cy="42606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228600" y="1525680"/>
            <a:ext cx="25146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Work alone.</a:t>
            </a:r>
            <a:br>
              <a:rPr sz="2200"/>
            </a:br>
            <a:r>
              <a:rPr b="1" lang="en-US" sz="2200" spc="-1" strike="noStrike">
                <a:solidFill>
                  <a:srgbClr val="00206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Cut and paste items in all but last column.</a:t>
            </a:r>
            <a:br>
              <a:rPr sz="2200"/>
            </a:br>
            <a:r>
              <a:rPr b="1" lang="en-US" sz="2200" spc="-1" strike="noStrike">
                <a:solidFill>
                  <a:srgbClr val="00206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Mark aha moments and advocacy/PR/ survival kit ideas in the last colum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971800" y="6172200"/>
            <a:ext cx="609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Move quickly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52280" y="1031760"/>
            <a:ext cx="11201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Gill Sans MT"/>
                <a:ea typeface="Aharoni"/>
              </a:rPr>
              <a:t>To know the </a:t>
            </a:r>
            <a:r>
              <a:rPr b="1" i="1" lang="en-US" sz="2600" spc="-1" strike="noStrike">
                <a:solidFill>
                  <a:srgbClr val="002060"/>
                </a:solidFill>
                <a:latin typeface="Gill Sans MT"/>
                <a:ea typeface="Aharoni"/>
              </a:rPr>
              <a:t>Standards, </a:t>
            </a:r>
            <a:r>
              <a:rPr b="1" lang="en-US" sz="2600" spc="-1" strike="noStrike">
                <a:solidFill>
                  <a:srgbClr val="002060"/>
                </a:solidFill>
                <a:latin typeface="Gill Sans MT"/>
                <a:ea typeface="Aharoni"/>
              </a:rPr>
              <a:t>you have to interact with the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0" y="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Gill Sans MT"/>
                <a:ea typeface="Aharoni"/>
              </a:rPr>
              <a:t>Jigsaw!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152280" y="1306440"/>
            <a:ext cx="31244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Divide into grou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Sha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aha moments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new information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problems 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worries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excitement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Valued Customer\AppData\Local\Microsoft\Windows\Temporary Internet Files\Content.IE5\MF04FO1S\MPj04015980000[1].jpg"/>
          <p:cNvPicPr/>
          <p:nvPr/>
        </p:nvPicPr>
        <p:blipFill>
          <a:blip r:embed="rId2"/>
          <a:stretch/>
        </p:blipFill>
        <p:spPr>
          <a:xfrm>
            <a:off x="3352680" y="114300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C:\Users\Valued Customer\AppData\Local\Microsoft\Windows\Temporary Internet Files\Content.IE5\MF04FO1S\MPj04395360000[1].jpg"/>
          <p:cNvPicPr/>
          <p:nvPr/>
        </p:nvPicPr>
        <p:blipFill>
          <a:blip r:embed="rId1"/>
          <a:stretch/>
        </p:blipFill>
        <p:spPr>
          <a:xfrm>
            <a:off x="-2057400" y="830160"/>
            <a:ext cx="11201400" cy="60278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0" y="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haroni"/>
                <a:ea typeface="Aharoni"/>
              </a:rPr>
              <a:t>Whole Group Reflecti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0" y="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haroni"/>
                <a:ea typeface="Aharoni"/>
              </a:rPr>
              <a:t>What You Discussed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0" y="152280"/>
            <a:ext cx="8686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From Gigi Lincoln: 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Visit REMC 12’s great </a:t>
            </a:r>
            <a:r>
              <a:rPr b="1" i="1" lang="en-US" sz="3500" spc="-1" strike="noStrike">
                <a:solidFill>
                  <a:srgbClr val="000000"/>
                </a:solidFill>
                <a:latin typeface="Gill Sans MT"/>
              </a:rPr>
              <a:t>Standards </a:t>
            </a: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resources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http://remc12.wikispaces.co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rcRect l="27499" t="26003" r="43125" b="44002"/>
          <a:stretch/>
        </p:blipFill>
        <p:spPr>
          <a:xfrm>
            <a:off x="4043520" y="3505320"/>
            <a:ext cx="5252760" cy="3352680"/>
          </a:xfrm>
          <a:prstGeom prst="rect">
            <a:avLst/>
          </a:prstGeom>
          <a:ln w="0">
            <a:noFill/>
          </a:ln>
        </p:spPr>
      </p:pic>
      <p:sp>
        <p:nvSpPr>
          <p:cNvPr id="81" name="Right Arrow 4"/>
          <p:cNvSpPr/>
          <p:nvPr/>
        </p:nvSpPr>
        <p:spPr>
          <a:xfrm>
            <a:off x="380880" y="4495680"/>
            <a:ext cx="3657600" cy="20574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Gigi being honored in NYC at the ALA/NYTimes “I Love My Librarian” aw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0:01:49Z</dcterms:created>
  <dc:creator>Kristin Fontichiaro</dc:creator>
  <dc:description/>
  <dc:language>en-US</dc:language>
  <cp:lastModifiedBy>Kristin Fontichiaro</cp:lastModifiedBy>
  <dcterms:modified xsi:type="dcterms:W3CDTF">2009-03-09T02:58:01Z</dcterms:modified>
  <cp:revision>62</cp:revision>
  <dc:subject/>
  <dc:title>Slide 1</dc:title>
</cp:coreProperties>
</file>