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4FA6-743B-4597-B3B4-FAC2FE4FCA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7A9F-7455-4811-AFFA-DFEB235C17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9359-A97B-4B53-9138-357A1B05D2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87EB-6DF2-4C6C-B846-A92283237B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A2F4-2FEC-4979-A12E-5154C576F6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C34F-B2EC-4249-A71D-44D054F54F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FD41-EFE3-4063-8F3C-B341DA61A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5FA4-2325-43C7-9038-928F8AD64D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63F2-B236-448A-B1C5-9A92B76AAD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FD545-9D04-4049-AB50-1333C36ED5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7A39-B086-41F7-8A18-586638A1FE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9A68-F655-4792-AC09-52AC5690F4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E68D-323B-4057-9460-2A62930B96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CF20-68A4-419B-B3CE-0DF48CD5AD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0197-E2E8-41EE-A077-756BA309C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2BFF-7032-4C77-B661-EA73BA9E6E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452C-38D4-4228-BEE3-462076F7C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BB3C-4505-4A6D-AD3C-A9BF1DD22E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2608-ABEF-4C32-ABC2-23808F510C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89B76-EF4E-4EBB-B749-F2335F2943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7D7F4-5164-4701-B01D-CE2D0669B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6DC-3ADE-4D44-AC4B-22CF5900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0A77-0C04-4ADE-8F21-5D868E3D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7D1-B88B-4025-8266-A2B1BA55F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B9A-73D5-4420-B071-139DCCFD9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EE8-6687-46C9-A993-85D2C873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31F7-5627-402E-9357-F800BCE9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7668-18E2-4E73-8385-6AD9A58A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B82-5F7D-4EFA-BFA2-FB398E71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17E2-AB57-4665-8D63-F19E8193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3F72-7E76-41DC-BC03-6FFA4B0C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2581-4243-4100-8064-A3561763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930-076D-4DFE-9D32-E6FD6121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2D84-3342-41A9-B46D-BDED796D0C67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Valued Customer\AppData\Local\Microsoft\Windows\Temporary Internet Files\Content.IE5\PM4R9IVN\MPj04388110000[1].jpg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0" y="15228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What will our students need to know and be able to do to thrive in the fut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79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"/>
          <p:cNvSpPr/>
          <p:nvPr/>
        </p:nvSpPr>
        <p:spPr>
          <a:xfrm>
            <a:off x="3352680" y="4267080"/>
            <a:ext cx="2667240" cy="91440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TextBox 4"/>
          <p:cNvGrpSpPr/>
          <p:nvPr/>
        </p:nvGrpSpPr>
        <p:grpSpPr>
          <a:xfrm>
            <a:off x="-201600" y="5894280"/>
            <a:ext cx="9401040" cy="731880"/>
            <a:chOff x="-201600" y="5894280"/>
            <a:chExt cx="9401040" cy="731880"/>
          </a:xfrm>
        </p:grpSpPr>
        <p:pic>
          <p:nvPicPr>
            <p:cNvPr id="82" name="TextBox 4" descr=""/>
            <p:cNvPicPr/>
            <p:nvPr/>
          </p:nvPicPr>
          <p:blipFill>
            <a:blip r:embed="rId2"/>
            <a:stretch/>
          </p:blipFill>
          <p:spPr>
            <a:xfrm>
              <a:off x="-201600" y="5894280"/>
              <a:ext cx="94010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5999040"/>
              <a:ext cx="914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haroni"/>
                  <a:ea typeface="Aharoni"/>
                </a:rPr>
                <a:t>Opportunity! Opportunity! Opportunity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rcRect l="59054" t="64466" r="13339" b="0"/>
          <a:stretch/>
        </p:blipFill>
        <p:spPr>
          <a:xfrm>
            <a:off x="5029200" y="3657600"/>
            <a:ext cx="2209680" cy="222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rcRect l="35246" t="34053" r="15238" b="34334"/>
          <a:stretch/>
        </p:blipFill>
        <p:spPr>
          <a:xfrm>
            <a:off x="3124080" y="1752480"/>
            <a:ext cx="3962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04920" y="-380880"/>
            <a:ext cx="8001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38126" t="20003" r="25001" b="6000"/>
          <a:stretch/>
        </p:blipFill>
        <p:spPr>
          <a:xfrm>
            <a:off x="1828800" y="0"/>
            <a:ext cx="542304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0" y="6094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77933c"/>
                </a:solidFill>
                <a:latin typeface="Aharoni"/>
                <a:ea typeface="Aharoni"/>
              </a:rPr>
              <a:t>199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0" y="368784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haroni"/>
                <a:ea typeface="Aharoni"/>
              </a:rPr>
              <a:t>Information Power 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0" y="6094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77933c"/>
                </a:solidFill>
                <a:latin typeface="Aharoni"/>
                <a:ea typeface="Aharoni"/>
              </a:rPr>
              <a:t>199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Google"/>
          <p:cNvPicPr/>
          <p:nvPr/>
        </p:nvPicPr>
        <p:blipFill>
          <a:blip r:embed="rId1"/>
          <a:stretch/>
        </p:blipFill>
        <p:spPr>
          <a:xfrm>
            <a:off x="990720" y="3828960"/>
            <a:ext cx="68356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:\Users\Valued Customer\AppData\Local\Microsoft\Windows\Temporary Internet Files\Content.IE5\33L5Q479\MPj04064860000[1].jpg"/>
          <p:cNvPicPr/>
          <p:nvPr/>
        </p:nvPicPr>
        <p:blipFill>
          <a:blip r:embed="rId2"/>
          <a:stretch/>
        </p:blipFill>
        <p:spPr>
          <a:xfrm>
            <a:off x="-304920" y="2209680"/>
            <a:ext cx="102920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2280" y="22860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 a nutshell:  Going beyond </a:t>
            </a:r>
            <a:r>
              <a:rPr b="1" lang="en-US" sz="2400" spc="-1" strike="noStrike">
                <a:solidFill>
                  <a:srgbClr val="92d050"/>
                </a:solidFill>
                <a:latin typeface="Gill Sans MT"/>
                <a:ea typeface="Aharoni"/>
              </a:rPr>
              <a:t>FINDING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form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Making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Creating Something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:\Users\Valued Customer\AppData\Local\Microsoft\Windows\Temporary Internet Files\Content.IE5\33L5Q479\MPj04064860000[1].jpg"/>
          <p:cNvPicPr/>
          <p:nvPr/>
        </p:nvPicPr>
        <p:blipFill>
          <a:blip r:embed="rId2"/>
          <a:stretch/>
        </p:blipFill>
        <p:spPr>
          <a:xfrm>
            <a:off x="-304920" y="2209680"/>
            <a:ext cx="102920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52280" y="22860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 a nutshell:  Going beyond </a:t>
            </a:r>
            <a:r>
              <a:rPr b="1" lang="en-US" sz="2400" spc="-1" strike="noStrike">
                <a:solidFill>
                  <a:srgbClr val="92d050"/>
                </a:solidFill>
                <a:latin typeface="Gill Sans MT"/>
                <a:ea typeface="Aharoni"/>
              </a:rPr>
              <a:t>FINDING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form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Making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Creating Something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Callout 6"/>
          <p:cNvSpPr/>
          <p:nvPr/>
        </p:nvSpPr>
        <p:spPr>
          <a:xfrm>
            <a:off x="7315200" y="2438280"/>
            <a:ext cx="1676520" cy="3733920"/>
          </a:xfrm>
          <a:prstGeom prst="wedgeEllipseCallout">
            <a:avLst>
              <a:gd name="adj1" fmla="val -64106"/>
              <a:gd name="adj2" fmla="val 4424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7543800" y="3100320"/>
            <a:ext cx="1295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Aharoni"/>
              </a:rPr>
              <a:t>You can go home now.  Thanks for com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523880" y="0"/>
            <a:ext cx="7162920" cy="72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It’s About Stud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Remember what Ross Todd said he found in his research?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Teachers want to collaborate so students learn more.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Librarians want to collaborate to show how great libraries and librarians are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Gul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523880" y="762120"/>
            <a:ext cx="716292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free 8-page downl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s in Action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available for purchase at ala.o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Program Guidelines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coming s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pon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Image, Source: digital file from original"/>
          <p:cNvPicPr/>
          <p:nvPr/>
        </p:nvPicPr>
        <p:blipFill>
          <a:blip r:embed="rId1"/>
          <a:srcRect l="13752" t="14160" r="17499" b="11501"/>
          <a:stretch/>
        </p:blipFill>
        <p:spPr>
          <a:xfrm>
            <a:off x="0" y="-12528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600" y="57150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The future won’t look like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4952880" y="65818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Source: http://memory.loc.gov/ammem/today/jul3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pon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438280" y="380880"/>
            <a:ext cx="5562720" cy="1676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8-Page Document: </a:t>
            </a: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Standards for the 21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ill Sans MT"/>
              </a:rPr>
              <a:t>st</a:t>
            </a: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-Century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438280" y="2362320"/>
            <a:ext cx="22860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9 Common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5410080" y="2362320"/>
            <a:ext cx="25146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4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3276720" y="4419720"/>
            <a:ext cx="167616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Dis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525780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Student Respon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723888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Student Self-Assess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29528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16"/>
          <p:cNvCxnSpPr>
            <a:stCxn id="120" idx="2"/>
            <a:endCxn id="123" idx="0"/>
          </p:cNvCxnSpPr>
          <p:nvPr/>
        </p:nvCxnSpPr>
        <p:spPr>
          <a:xfrm flipH="1" rot="16200000">
            <a:off x="6915240" y="3257280"/>
            <a:ext cx="915120" cy="141048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6" name="Elbow Connector 18"/>
          <p:cNvCxnSpPr>
            <a:stCxn id="120" idx="2"/>
            <a:endCxn id="124" idx="0"/>
          </p:cNvCxnSpPr>
          <p:nvPr/>
        </p:nvCxnSpPr>
        <p:spPr>
          <a:xfrm rot="5400000">
            <a:off x="3942720" y="1695600"/>
            <a:ext cx="915120" cy="45345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7" name="Elbow Connector 20"/>
          <p:cNvCxnSpPr>
            <a:stCxn id="120" idx="2"/>
            <a:endCxn id="121" idx="0"/>
          </p:cNvCxnSpPr>
          <p:nvPr/>
        </p:nvCxnSpPr>
        <p:spPr>
          <a:xfrm rot="5400000">
            <a:off x="4933080" y="2686320"/>
            <a:ext cx="915120" cy="255312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Elbow Connector 22"/>
          <p:cNvCxnSpPr>
            <a:stCxn id="120" idx="2"/>
            <a:endCxn id="122" idx="0"/>
          </p:cNvCxnSpPr>
          <p:nvPr/>
        </p:nvCxnSpPr>
        <p:spPr>
          <a:xfrm rot="5400000">
            <a:off x="5923800" y="3676680"/>
            <a:ext cx="915120" cy="57240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Elbow Connector 34"/>
          <p:cNvCxnSpPr>
            <a:stCxn id="118" idx="2"/>
            <a:endCxn id="119" idx="0"/>
          </p:cNvCxnSpPr>
          <p:nvPr/>
        </p:nvCxnSpPr>
        <p:spPr>
          <a:xfrm rot="5400000">
            <a:off x="4247280" y="1390320"/>
            <a:ext cx="305640" cy="16390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hape 36"/>
          <p:cNvCxnSpPr>
            <a:stCxn id="118" idx="2"/>
            <a:endCxn id="120" idx="0"/>
          </p:cNvCxnSpPr>
          <p:nvPr/>
        </p:nvCxnSpPr>
        <p:spPr>
          <a:xfrm flipH="1" rot="16200000">
            <a:off x="5790960" y="1485360"/>
            <a:ext cx="30564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Valued Customer\AppData\Local\Microsoft\Windows\Temporary Internet Files\Content.IE5\CII5TUUQ\MPj02160210000[1].jpg"/>
          <p:cNvPicPr/>
          <p:nvPr/>
        </p:nvPicPr>
        <p:blipFill>
          <a:blip r:embed="rId1"/>
          <a:stretch/>
        </p:blipFill>
        <p:spPr>
          <a:xfrm>
            <a:off x="228600" y="-61920"/>
            <a:ext cx="8915400" cy="6048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143000" y="26668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Laying a strong founda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Giving us language to reach out and connect to colleagu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Starts the conversation on common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371600" y="228600"/>
            <a:ext cx="7772400" cy="54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Reading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is a window to the world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Inquiry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provides a framework for learning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Ethical behavior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in the use of information must be taught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Technology skill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re crucial for future employment need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1371600" y="228600"/>
            <a:ext cx="731520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5. 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Equitable acces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is a key component for education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6.  The definition of information literacy has become more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complex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as resources and technologies have chang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1371600" y="228600"/>
            <a:ext cx="7772400" cy="54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7.  The continuing expansion of information demands that all individuals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acquire the thinking skill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that will enable them to learn on their own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Learning has a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social context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School librarie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re essential to the development of learning skil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1523880" y="0"/>
            <a:ext cx="71629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Learners use skills, resources, and tools 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quire,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think critically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, and gain knowledge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draw conclusions, make informed decisions, apply knowledge to new situations, and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create new knowledge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share knowledge and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participate ethically and productively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as members of our democratic society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pursue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personal and aesthetic growth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 rot="16200000">
            <a:off x="-2894400" y="28944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  <a:ea typeface="Aharoni"/>
              </a:rPr>
              <a:t>The Fou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 rot="16200000">
            <a:off x="-2894400" y="28944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  <a:ea typeface="Aharoni"/>
              </a:rPr>
              <a:t>More Than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523880" y="304920"/>
            <a:ext cx="6553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ubsections for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kil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disposi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elf-assess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tudent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C:\Users\Valued Customer\AppData\Local\Microsoft\Windows\Temporary Internet Files\Content.IE5\PM4R9IVN\MPj04395640000[1].jpg"/>
          <p:cNvPicPr/>
          <p:nvPr/>
        </p:nvPicPr>
        <p:blipFill>
          <a:blip r:embed="rId2"/>
          <a:stretch/>
        </p:blipFill>
        <p:spPr>
          <a:xfrm>
            <a:off x="5437080" y="1219320"/>
            <a:ext cx="3706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http://a123.g.akamai.net/f/123/12465/1d/www.canada.com/shop/shopper/images/hotornot_top_1.gif"/>
          <p:cNvPicPr/>
          <p:nvPr/>
        </p:nvPicPr>
        <p:blipFill>
          <a:blip r:embed="rId1"/>
          <a:stretch/>
        </p:blipFill>
        <p:spPr>
          <a:xfrm>
            <a:off x="2438280" y="0"/>
            <a:ext cx="4114800" cy="26002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5"/>
          <p:cNvSpPr/>
          <p:nvPr/>
        </p:nvSpPr>
        <p:spPr>
          <a:xfrm rot="5400000">
            <a:off x="-2034000" y="20332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Image: canada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4570560" y="3049560"/>
            <a:ext cx="2880" cy="358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457200" y="2286000"/>
            <a:ext cx="3809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nqui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houghtfulness,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roblem-solvin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evaluat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instructional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artner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hroughout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Social, collaborative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teach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learning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uthentic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ork tasks, products, and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105520" y="228600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“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Dump and go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”: finding answers to specific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close-end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eacher-generated ques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Find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inform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an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ccesso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o learning (“a clerk could do it”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solat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individual lea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 Contrived tasks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without resonance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to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4267080" y="1273320"/>
            <a:ext cx="4302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 rot="16200000">
            <a:off x="-2896560" y="2833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lorado Learner’s Bill of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1219320" y="228600"/>
            <a:ext cx="76960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he learner has the right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   question and be curiou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.   have personal idea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.   choose how to learn and share under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.   plan and participate in learning at a level that’s approp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.   grapple with challenging ideas or conce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6.   access the information and resource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7.   participate in and contribute to a learning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8.   think critically, solve problems and make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9.   make mistakes and learn from them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0.  reflect on learning.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Gill Sans MT"/>
              </a:rPr>
              <a:t>(http://casl.wordpress.com/2008/11/08/colorado-learners-bill-of-right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C:\Users\Valued Customer\AppData\Local\Microsoft\Windows\Temporary Internet Files\Content.IE5\33L5Q479\MPj03993720000[1].jpg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4"/>
          <p:cNvSpPr/>
          <p:nvPr/>
        </p:nvSpPr>
        <p:spPr>
          <a:xfrm>
            <a:off x="304920" y="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Feeling snowed in with this new inform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We’ll sort this out tomo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4876920" y="6324480"/>
            <a:ext cx="71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Henry Ford at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Source: http://memory.loc.gov/ammem/today/jul3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4495680" y="9907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The office and executive jobs he envisioned may no longer exist … or be in Michigan … or be plentiful enough for all of Michigan’s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memory.loc.gov/service/pnp/cph/3c10000/3c11000/3c11300/3c11360v.jpg"/>
          <p:cNvPicPr/>
          <p:nvPr/>
        </p:nvPicPr>
        <p:blipFill>
          <a:blip r:embed="rId1"/>
          <a:srcRect l="19732" t="13280" r="18128" b="9375"/>
          <a:stretch/>
        </p:blipFill>
        <p:spPr>
          <a:xfrm>
            <a:off x="0" y="0"/>
            <a:ext cx="436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Valued Customer\AppData\Local\Microsoft\Windows\Temporary Internet Files\Content.IE5\RAYH10OK\MPj02899120000[1].jpg"/>
          <p:cNvPicPr/>
          <p:nvPr/>
        </p:nvPicPr>
        <p:blipFill>
          <a:blip r:embed="rId1"/>
          <a:stretch/>
        </p:blipFill>
        <p:spPr>
          <a:xfrm>
            <a:off x="4572000" y="-17640"/>
            <a:ext cx="4572000" cy="6875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52280" y="152280"/>
            <a:ext cx="43434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We can’t predict our students’ future any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But we can help them prepare for a life of chang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We school librarians want to be part of students’ learning journey. </a:t>
            </a:r>
            <a:r>
              <a:rPr b="1" i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(Do others know tha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2682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105520" y="2743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Partnership for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  <a:ea typeface="Aharoni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 Centur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www.21stcenturyskill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-1523880" y="4495680"/>
            <a:ext cx="129538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065320" cy="2666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685800" y="601992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AASL Standards for the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  <a:ea typeface="Aharoni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-Century Lea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www.ala.org/aa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600360" cy="2819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380880" y="2590920"/>
            <a:ext cx="320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ISTE - NETS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iste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4"/>
          <a:srcRect l="0" t="0" r="0" b="73339"/>
          <a:stretch/>
        </p:blipFill>
        <p:spPr>
          <a:xfrm>
            <a:off x="5638680" y="3886200"/>
            <a:ext cx="2857680" cy="1523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5562720" y="5257800"/>
            <a:ext cx="7162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ASCD Whol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Ascd.org or wholechildeducation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-360" y="3045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Healthy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kids &amp;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Intellectually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challenging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Physically &amp; emotionally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Activ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Connect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to school &amp;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Personaliz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Qualified, caring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Prepar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for college/further study &amp; global enviro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-360" y="129492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Gill Sans MT"/>
                <a:ea typeface="Aharoni"/>
              </a:rPr>
              <a:t>A group effor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Commun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Schoo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Teac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77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9:29:49Z</dcterms:created>
  <dc:creator>Kristin Fontichiaro</dc:creator>
  <dc:description/>
  <dc:language>en-US</dc:language>
  <cp:lastModifiedBy>Kristin Fontichiaro</cp:lastModifiedBy>
  <dcterms:modified xsi:type="dcterms:W3CDTF">2009-03-07T01:53:23Z</dcterms:modified>
  <cp:revision>204</cp:revision>
  <dc:subject/>
  <dc:title>Thinking Thoughtfully About Technology and Standards</dc:title>
</cp:coreProperties>
</file>