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3E62-0E93-476F-8ADC-85CA9C614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4EFA2-1D69-43DA-9F69-9E4076BDB5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264A-C69C-4266-B794-FD54B3D0B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E159-9763-4D42-9D02-51F69F8BDC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1329-6196-494D-8259-4044067C46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315B-6B2E-45A3-981A-EB69913E6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A2E10-D133-4957-B80E-DFDC8C4059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25E3-FA65-4C3A-BBF7-E05F55DCE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FE7F-BA09-459B-9AAD-9721EBAC2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E7CB-6E11-429B-BA57-158C56423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2532-023B-498D-BF3F-813C8AC3DA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D30E-52BB-4649-8519-0C172FC24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A7AD-094A-4CBB-9EFC-1C910F51FA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7FF14-9ED3-4707-878A-4ACF44EA9C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D522F-FCDA-4A31-9837-7638D650A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4ED7-DBF4-48CA-A923-BAC30FAAB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89B4-9C90-4B31-A009-944C54072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D057-FC28-4CE8-8677-94E6105AF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B75E-7F0E-4224-BA9D-34DAD85B0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69AD-F23E-4B53-9102-EF7A55671C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AFA5-2501-4281-BEB2-349E82218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E802-3071-4C65-849D-A76306F16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2F9-1E91-4624-BBEC-C4C08EC41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2331-61B6-4292-BC8A-52CA1487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FD5B-3DB0-4575-B281-27C669049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B726-AE8B-45DE-B04B-D4C19154B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FD9-7209-4853-829F-C4F9371C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8114-E86F-4D4E-9D67-62EA540E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10ED-8954-4CC1-928C-F9A50D08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78AA-7F67-437B-8609-716F0F8E6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A5F4-2741-477B-8C97-7810A526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3AB1-11A3-44C2-91D2-D9AF8221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0BCE-C227-4C98-BC29-B2DEFBAC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9DD1-4D59-4262-AB56-CA6C656622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0" y="15228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What will ou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3352680" y="4267080"/>
            <a:ext cx="2667240" cy="91440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TextBox 4"/>
          <p:cNvGrpSpPr/>
          <p:nvPr/>
        </p:nvGrpSpPr>
        <p:grpSpPr>
          <a:xfrm>
            <a:off x="-201600" y="5894280"/>
            <a:ext cx="9401040" cy="731880"/>
            <a:chOff x="-201600" y="5894280"/>
            <a:chExt cx="9401040" cy="731880"/>
          </a:xfrm>
        </p:grpSpPr>
        <p:pic>
          <p:nvPicPr>
            <p:cNvPr id="82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894280"/>
              <a:ext cx="94010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599904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Opportunity! Opportunity! Opportunity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38126" t="20003" r="25001" b="6000"/>
          <a:stretch/>
        </p:blipFill>
        <p:spPr>
          <a:xfrm>
            <a:off x="1828800" y="0"/>
            <a:ext cx="542304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0" y="368784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haroni"/>
                <a:ea typeface="Aharoni"/>
              </a:rPr>
              <a:t>Information Power 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Google"/>
          <p:cNvPicPr/>
          <p:nvPr/>
        </p:nvPicPr>
        <p:blipFill>
          <a:blip r:embed="rId1"/>
          <a:stretch/>
        </p:blipFill>
        <p:spPr>
          <a:xfrm>
            <a:off x="990720" y="3828960"/>
            <a:ext cx="6835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Callout 6"/>
          <p:cNvSpPr/>
          <p:nvPr/>
        </p:nvSpPr>
        <p:spPr>
          <a:xfrm>
            <a:off x="7315200" y="2438280"/>
            <a:ext cx="1676520" cy="3733920"/>
          </a:xfrm>
          <a:prstGeom prst="wedgeEllipseCallout">
            <a:avLst>
              <a:gd name="adj1" fmla="val -64106"/>
              <a:gd name="adj2" fmla="val 4424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7543800" y="3100320"/>
            <a:ext cx="1295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Aharoni"/>
              </a:rPr>
              <a:t>You can go home now.  Thanks for com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523880" y="0"/>
            <a:ext cx="7162920" cy="72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It’s About Stud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Remember what Ross Todd said he found in his research?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Teachers want to collaborate so students learn more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Librarians want to collaborate to show how great libraries and librarians are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Gul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523880" y="762120"/>
            <a:ext cx="716292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free 8-page downl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 in Action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available for purchase at ala.o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Program Guidelines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coming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mage, Source: digital file from original"/>
          <p:cNvPicPr/>
          <p:nvPr/>
        </p:nvPicPr>
        <p:blipFill>
          <a:blip r:embed="rId1"/>
          <a:srcRect l="13752" t="14160" r="17499" b="11501"/>
          <a:stretch/>
        </p:blipFill>
        <p:spPr>
          <a:xfrm>
            <a:off x="0" y="-12528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" y="5715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future won’t look like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4952880" y="6581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438280" y="380880"/>
            <a:ext cx="5562720" cy="1676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8-Page Document: 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Standards for the 21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ill Sans MT"/>
              </a:rPr>
              <a:t>st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-Centu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438280" y="2362320"/>
            <a:ext cx="22860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9 Common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5410080" y="2362320"/>
            <a:ext cx="25146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4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276720" y="4419720"/>
            <a:ext cx="167616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Dis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25780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Student 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72388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tudent Self-Assess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2952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16"/>
          <p:cNvCxnSpPr>
            <a:stCxn id="120" idx="2"/>
            <a:endCxn id="123" idx="0"/>
          </p:cNvCxnSpPr>
          <p:nvPr/>
        </p:nvCxnSpPr>
        <p:spPr>
          <a:xfrm flipH="1" rot="16200000">
            <a:off x="6915240" y="3257280"/>
            <a:ext cx="915120" cy="14104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Elbow Connector 18"/>
          <p:cNvCxnSpPr>
            <a:stCxn id="120" idx="2"/>
            <a:endCxn id="124" idx="0"/>
          </p:cNvCxnSpPr>
          <p:nvPr/>
        </p:nvCxnSpPr>
        <p:spPr>
          <a:xfrm rot="5400000">
            <a:off x="3942720" y="1695600"/>
            <a:ext cx="915120" cy="45345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Elbow Connector 20"/>
          <p:cNvCxnSpPr>
            <a:stCxn id="120" idx="2"/>
            <a:endCxn id="121" idx="0"/>
          </p:cNvCxnSpPr>
          <p:nvPr/>
        </p:nvCxnSpPr>
        <p:spPr>
          <a:xfrm rot="5400000">
            <a:off x="4933080" y="2686320"/>
            <a:ext cx="915120" cy="255312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Elbow Connector 22"/>
          <p:cNvCxnSpPr>
            <a:stCxn id="120" idx="2"/>
            <a:endCxn id="122" idx="0"/>
          </p:cNvCxnSpPr>
          <p:nvPr/>
        </p:nvCxnSpPr>
        <p:spPr>
          <a:xfrm rot="5400000">
            <a:off x="5923800" y="3676680"/>
            <a:ext cx="915120" cy="57240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Elbow Connector 34"/>
          <p:cNvCxnSpPr>
            <a:stCxn id="118" idx="2"/>
            <a:endCxn id="119" idx="0"/>
          </p:cNvCxnSpPr>
          <p:nvPr/>
        </p:nvCxnSpPr>
        <p:spPr>
          <a:xfrm rot="5400000">
            <a:off x="4247280" y="1390320"/>
            <a:ext cx="305640" cy="16390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hape 36"/>
          <p:cNvCxnSpPr>
            <a:stCxn id="118" idx="2"/>
            <a:endCxn id="120" idx="0"/>
          </p:cNvCxnSpPr>
          <p:nvPr/>
        </p:nvCxnSpPr>
        <p:spPr>
          <a:xfrm flipH="1" rot="16200000">
            <a:off x="5790960" y="148536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Valued Customer\AppData\Local\Microsoft\Windows\Temporary Internet Files\Content.IE5\CII5TUUQ\MPj02160210000[1].jpg"/>
          <p:cNvPicPr/>
          <p:nvPr/>
        </p:nvPicPr>
        <p:blipFill>
          <a:blip r:embed="rId1"/>
          <a:stretch/>
        </p:blipFill>
        <p:spPr>
          <a:xfrm>
            <a:off x="228600" y="-61920"/>
            <a:ext cx="8915400" cy="6048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143000" y="26668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Laying a strong found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Giving us language to reach out and connect to colleagu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Starts the conversation on common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Reading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is a window to the world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Inquiry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provides a framework for learning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thical behavior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n the use of information must be taught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Technology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crucial for future employment nee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371600" y="228600"/>
            <a:ext cx="73152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5. 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quitable acces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s a key component for educatio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6.  The definition of information literacy has become more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complex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as resources and technologies have chang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7.  The continuing expansion of information demands that all individuals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acquire the thinking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that will enable them to learn on their ow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Learning has a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ocial context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chool librarie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essential to the development of learning skil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quire,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think critically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, and gain knowledge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draw conclusions, make informed decisions, apply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create new knowledge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share knowledge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articipate ethically and productively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as members of our democratic society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ersonal and aesthetic growth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The Fou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More Tha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523880" y="304920"/>
            <a:ext cx="655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ubsections for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kil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disposi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elf-assess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udent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5437080" y="1219320"/>
            <a:ext cx="3706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Users\Valued Customer\AppData\Local\Microsoft\Windows\Temporary Internet Files\Content.IE5\33L5Q479\MPj03993720000[1]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304920" y="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Feeling snowed in with this new inform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We’ll sort this out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876920" y="6324480"/>
            <a:ext cx="71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Henry Ford at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495680" y="9907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office and executive jobs he envisioned may no longer exist … or be in Michigan … or be plentiful enough for all of Michigan’s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memory.loc.gov/service/pnp/cph/3c10000/3c11000/3c11300/3c11360v.jpg"/>
          <p:cNvPicPr/>
          <p:nvPr/>
        </p:nvPicPr>
        <p:blipFill>
          <a:blip r:embed="rId1"/>
          <a:srcRect l="19732" t="13280" r="18128" b="9375"/>
          <a:stretch/>
        </p:blipFill>
        <p:spPr>
          <a:xfrm>
            <a:off x="0" y="0"/>
            <a:ext cx="436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Valued Customer\AppData\Local\Microsoft\Windows\Temporary Internet Files\Content.IE5\RAYH10OK\MPj02899120000[1].jpg"/>
          <p:cNvPicPr/>
          <p:nvPr/>
        </p:nvPicPr>
        <p:blipFill>
          <a:blip r:embed="rId1"/>
          <a:stretch/>
        </p:blipFill>
        <p:spPr>
          <a:xfrm>
            <a:off x="4572000" y="-17640"/>
            <a:ext cx="457200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52280" y="152280"/>
            <a:ext cx="4343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can’t predict our students’ future any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But we can help them prepare for a life of chan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school librarians want to be part of students’ learning journey. </a:t>
            </a:r>
            <a:r>
              <a:rPr b="1" i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(Do others know tha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 for 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5562720" y="5257800"/>
            <a:ext cx="7162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Healthy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Intellectu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hallenging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Physically &amp; emotion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ctiv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onnect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ersonaliz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Qualified, caring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repar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-360" y="129492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Gill Sans MT"/>
                <a:ea typeface="Aharoni"/>
              </a:rPr>
              <a:t>A group effor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Commun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Schoo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7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9-03-07T01:53:23Z</dcterms:modified>
  <cp:revision>204</cp:revision>
  <dc:subject/>
  <dc:title>Thinking Thoughtfully About Technology and Standards</dc:title>
</cp:coreProperties>
</file>