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3FE-86C7-4AF9-BB34-34C03A87B6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5030-86B3-4FE6-8EE3-872C8333FF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03F6-FDF7-4A30-8B80-33614A003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2E1F-B069-4ED2-A65D-68F63A7D22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DFBC-CBB4-4CA3-9896-1FBEC8915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48617-89FA-4A2D-A6EF-A33372C2C8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C08-6286-4F2C-B589-A614541B51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59EE-3DCC-4624-AF57-68CEBBE8C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C286-797D-4043-8DB3-115454A414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7D15-2E9B-4585-ABCB-3E06FB913D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CC8E-B778-4B99-81AE-A5B59D0ECF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7D87-B487-42E7-B1D4-E99448DB50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F15FC-E929-49C9-9A7F-BFCA6E7B16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7279-D546-4FB2-9053-FBA709C886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25410-CC08-474C-B638-CA5FBF3A0E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98C-DF48-4A2A-A1F4-1483FB7138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4B428-86CA-4786-ABFF-F117D8EA58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FB8E-0153-43FD-BBCA-6E881D07AE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ADD7-4EA3-4415-966E-5250058D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0502-4357-4064-8CBC-1FDDB5269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5C2-8500-4172-B537-FCC904C61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C09-915F-4551-8830-02EA9AEC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2F31-6CB4-451C-BF32-C55C6A39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B8AE-6630-4CA5-93DF-4D4D2365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B543-DD60-4ADA-BBA8-EBD4C8FF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F9E0-9808-448C-9AF7-D91F34F9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732B-0B40-48FE-B1E2-32BAB8B52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96A6-88C5-4DAB-8A94-18B236EF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7636-F214-4DE3-AE7C-9CC1DCB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D76A-51BB-4384-B367-B1844E92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BC75-7847-4B54-A857-97629EEA42C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RAYH10OK\MPj03856430000[1].jpg"/>
          <p:cNvPicPr/>
          <p:nvPr/>
        </p:nvPicPr>
        <p:blipFill>
          <a:blip r:embed="rId1"/>
          <a:stretch/>
        </p:blipFill>
        <p:spPr>
          <a:xfrm>
            <a:off x="-3808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19320" y="2021040"/>
            <a:ext cx="579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rush Script MT"/>
                <a:ea typeface="Microsoft JhengHei"/>
              </a:rPr>
              <a:t>To the post-NCLB Worl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qui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think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itical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ain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raw conclu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make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formed deci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eate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new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and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articipat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ethical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roductive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s members of our democratic societ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ersonal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esthetic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The  Four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0"/>
            <a:ext cx="91440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More Than Skills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ubsections for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ispos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elf-assess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uden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9375" t="15000" r="19376" b="17003"/>
          <a:stretch/>
        </p:blipFill>
        <p:spPr>
          <a:xfrm>
            <a:off x="-54000" y="1447920"/>
            <a:ext cx="91980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312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ow do we get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there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from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font\AppData\Local\Microsoft\Windows\Temporary Internet Files\Content.IE5\B9GJ1140\MPj04277510000[1].jpg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76920" y="1158840"/>
            <a:ext cx="396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You know what they say about eating an elephant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Stretch our definitions of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iggins &amp; McTig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29400" y="3720960"/>
            <a:ext cx="218124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Valued Customer\AppData\Local\Microsoft\Windows\Temporary Internet Files\Content.IE5\1QJSI587\MPj04305290000[1].jpg"/>
          <p:cNvPicPr/>
          <p:nvPr/>
        </p:nvPicPr>
        <p:blipFill>
          <a:blip r:embed="rId2"/>
          <a:stretch/>
        </p:blipFill>
        <p:spPr>
          <a:xfrm>
            <a:off x="404028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-360"/>
            <a:ext cx="380988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will kids learn from this that they can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nto new work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hinking skil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es this lesson involv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is the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tudent learn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 (Content or procedur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C:\Users\Valued Customer\AppData\Local\Microsoft\Windows\Temporary Internet Files\Content.IE5\PM4R9IVN\MPj04317910000[1].jpg"/>
          <p:cNvPicPr/>
          <p:nvPr/>
        </p:nvPicPr>
        <p:blipFill>
          <a:blip r:embed="rId1"/>
          <a:srcRect l="21111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3504960"/>
            <a:ext cx="92199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ow can/should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elp with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different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support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tasks and audi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kids to other kids? To expe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old tech practices should we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jettison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Valued Customer\AppData\Local\Microsoft\Windows\Temporary Internet Files\Content.IE5\1QJSI587\MPj04308400000[1].jpg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Valued Customer\AppData\Local\Microsoft\Windows\Temporary Internet Files\Content.IE5\PM4R9IVN\MPj04118110000[1].jpg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80880" y="844560"/>
            <a:ext cx="358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 will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motivat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kids to do bett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’s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in i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for the k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152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haroni"/>
                <a:ea typeface="Aharoni"/>
              </a:rPr>
              <a:t>What will your children, grandchildren, nieces, nephews, o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Valued Customer\AppData\Local\Microsoft\Windows\Temporary Internet Files\Content.IE5\1QJSI587\MPj04394410000[1].jpg"/>
          <p:cNvPicPr/>
          <p:nvPr/>
        </p:nvPicPr>
        <p:blipFill>
          <a:blip r:embed="rId1"/>
          <a:stretch/>
        </p:blipFill>
        <p:spPr>
          <a:xfrm>
            <a:off x="1219320" y="2441520"/>
            <a:ext cx="6613560" cy="441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in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help students develop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self-assessmen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ski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will we help students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flexible mindsets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for problem-solv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191120" y="4952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-228600" y="5334120"/>
            <a:ext cx="5105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04920" y="533520"/>
            <a:ext cx="57909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haroni"/>
                <a:ea typeface="Aharoni"/>
              </a:rPr>
              <a:t>NEW PARADIGM: PLANNING FOR AN UNCERTAIN FU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Acquisition of information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Thinking skills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Flexible work habits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Personal investment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Means of sharing thinking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62720" y="76320"/>
            <a:ext cx="111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ttp://flickr.com/photos/chanc/35161557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Users\Valued Customer\AppData\Local\Microsoft\Windows\Temporary Internet Files\Content.IE5\EP8LUSS3\MPj04014100000[1].jpg"/>
          <p:cNvPicPr/>
          <p:nvPr/>
        </p:nvPicPr>
        <p:blipFill>
          <a:blip r:embed="rId1"/>
          <a:srcRect l="0" t="0" r="43078" b="0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5791320" y="259092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o be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34120" y="6411960"/>
            <a:ext cx="102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References list available upon 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Image: http://en.wikipedia.org/wiki/Image:Rosie_the_Riveter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font\AppData\Local\Microsoft\Windows\Temporary Internet Files\Content.IE5\RZG5UXHD\MPj04012890000[1]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57200" y="0"/>
            <a:ext cx="4724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Like the politicians say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transfo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how and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 for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5943600" y="571500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tellectu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halleng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hysically &amp; emotion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ersonaliz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Qualified, caring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repar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"/>
          <p:cNvCxnSpPr/>
          <p:nvPr/>
        </p:nvCxnSpPr>
        <p:spPr>
          <a:xfrm flipH="1" flipV="1">
            <a:off x="5562360" y="4876200"/>
            <a:ext cx="1372320" cy="1067400"/>
          </a:xfrm>
          <a:prstGeom prst="straightConnector1">
            <a:avLst/>
          </a:prstGeom>
          <a:ln w="889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" name="TextBox 4"/>
          <p:cNvGrpSpPr/>
          <p:nvPr/>
        </p:nvGrpSpPr>
        <p:grpSpPr>
          <a:xfrm>
            <a:off x="-201600" y="5735520"/>
            <a:ext cx="9401040" cy="1195560"/>
            <a:chOff x="-201600" y="5735520"/>
            <a:chExt cx="9401040" cy="119556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735520"/>
              <a:ext cx="9401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5842080"/>
              <a:ext cx="914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How will BPS address this for all teachers? How can we address this for one another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8-11-05T02:35:08Z</dcterms:modified>
  <cp:revision>121</cp:revision>
  <dc:subject/>
  <dc:title>Thinking Thoughtfully About Technology and Standards</dc:title>
</cp:coreProperties>
</file>