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67C6-5D12-4ECB-AEE8-D4130F388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59E5-282A-49E2-A0F7-2AAA78DF1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E277-C380-4C4C-8AC5-4B98EDBA8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8CC3-B27A-4397-A952-D84545FCC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8A0F-58A0-4A1E-A794-10CD10BA5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7B67-631C-4193-941A-6549F09B2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95CA-86BB-4036-9C65-385853336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50BC-322F-4FC9-A9D3-6BE493DD3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1D9A-3E93-4B7B-9FE0-64A83DC8C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8129-51D6-48E1-A064-47565F7AC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6C63-C7D0-4B2B-9685-503C53D53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BE91-E712-4708-96E6-BDE4CE9E6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F534-705B-4C7D-9150-6749C4CDF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EA4E-F897-4E41-8CB9-94AF62EA4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CBFD-DC18-45C0-BAD3-92AE27D80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23BD-17AA-450A-B1FD-0CE0D635F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9499-178E-4C4F-BBD2-EF7A2267F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D8A5-2592-451E-A8DA-DD41043C5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CB8-0AD0-40A7-B177-7E08A5AE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577-00ED-47D5-857F-A07AB6B1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22B-2F67-40F7-ADD5-9CBFAF97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84E-4BC8-4AAA-AC7E-6EF3C77B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16B-B775-4595-A17E-E00E6A36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77D-7C2B-4226-9389-1FA52554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6ED-61D1-4D71-AC52-F43E0F2A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0DB-9C37-46D5-8B7B-CA0607FE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AC3-1174-4C1D-AD7F-271ECA38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D81-109C-48F3-9C62-B513EADC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F8F-F942-44C2-95AE-B65C8C68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916-EB4B-4FC2-A7A1-027DDBF6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5EE6-6B34-408E-A247-8732574EFE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Valued Customer\AppData\Local\Microsoft\Windows\Temporary Internet Files\Content.IE5\RAYH10OK\MPj03856430000[1].jpg"/>
          <p:cNvPicPr/>
          <p:nvPr/>
        </p:nvPicPr>
        <p:blipFill>
          <a:blip r:embed="rId1"/>
          <a:stretch/>
        </p:blipFill>
        <p:spPr>
          <a:xfrm>
            <a:off x="-3808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219320" y="2021040"/>
            <a:ext cx="57909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Brush Script MT"/>
                <a:ea typeface="Microsoft JhengHei"/>
              </a:rPr>
              <a:t>To the post-NCLB World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304920" y="-380880"/>
            <a:ext cx="8001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1523880" y="0"/>
            <a:ext cx="71629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earners use skills, resources, and tools 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nquir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think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critically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gain knowledg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draw conclusions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make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nformed decisions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knowledge to new situations, 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create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new knowledg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har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knowledge and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articipate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ethically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roductively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as members of our democratic society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pursue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ersonal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aesthetic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growth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The  Four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0" y="0"/>
            <a:ext cx="914400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More Than Skills 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ubsections for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tand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kil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disposi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elf-assess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tudent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C:\Users\Valued Customer\AppData\Local\Microsoft\Windows\Temporary Internet Files\Content.IE5\PM4R9IVN\MPj04395640000[1].jpg"/>
          <p:cNvPicPr/>
          <p:nvPr/>
        </p:nvPicPr>
        <p:blipFill>
          <a:blip r:embed="rId2"/>
          <a:stretch/>
        </p:blipFill>
        <p:spPr>
          <a:xfrm>
            <a:off x="4191120" y="1600200"/>
            <a:ext cx="49528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a123.g.akamai.net/f/123/12465/1d/www.canada.com/shop/shopper/images/hotornot_top_1.gif"/>
          <p:cNvPicPr/>
          <p:nvPr/>
        </p:nvPicPr>
        <p:blipFill>
          <a:blip r:embed="rId1"/>
          <a:stretch/>
        </p:blipFill>
        <p:spPr>
          <a:xfrm>
            <a:off x="2438280" y="0"/>
            <a:ext cx="4114800" cy="26002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 rot="5400000">
            <a:off x="-2034000" y="20332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Image: canada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7"/>
          <p:cNvSpPr/>
          <p:nvPr/>
        </p:nvSpPr>
        <p:spPr>
          <a:xfrm flipH="1">
            <a:off x="4570560" y="3049560"/>
            <a:ext cx="2880" cy="358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457200" y="2286000"/>
            <a:ext cx="3809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nqui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houghtfulness,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roblem-solvin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evaluat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instructional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artner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hroughout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Social, collaborative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teach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learning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uthentic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ork tasks, products, and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5105520" y="228600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“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Dump and go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”: finding answers to specific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close-end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eacher-generated ques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Find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inform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an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ccesso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o learning (“a clerk could do it”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solat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individual lea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 Contrived tasks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without resonance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to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4267080" y="1273320"/>
            <a:ext cx="4302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9375" t="15000" r="19376" b="17003"/>
          <a:stretch/>
        </p:blipFill>
        <p:spPr>
          <a:xfrm>
            <a:off x="-54000" y="1447920"/>
            <a:ext cx="919800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0" y="3128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How do we get </a:t>
            </a:r>
            <a:r>
              <a:rPr b="0" lang="en-US" sz="4400" spc="-1" strike="noStrike">
                <a:solidFill>
                  <a:srgbClr val="c00000"/>
                </a:solidFill>
                <a:latin typeface="Aharoni"/>
                <a:ea typeface="Aharoni"/>
              </a:rPr>
              <a:t>there</a:t>
            </a: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 from </a:t>
            </a:r>
            <a:r>
              <a:rPr b="0" lang="en-US" sz="4400" spc="-1" strike="noStrike">
                <a:solidFill>
                  <a:srgbClr val="c00000"/>
                </a:solidFill>
                <a:latin typeface="Aharoni"/>
                <a:ea typeface="Aharoni"/>
              </a:rPr>
              <a:t>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font\AppData\Local\Microsoft\Windows\Temporary Internet Files\Content.IE5\B9GJ1140\MPj04277510000[1].jpg"/>
          <p:cNvPicPr/>
          <p:nvPr/>
        </p:nvPicPr>
        <p:blipFill>
          <a:blip r:embed="rId1"/>
          <a:stretch/>
        </p:blipFill>
        <p:spPr>
          <a:xfrm>
            <a:off x="0" y="0"/>
            <a:ext cx="46674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4876920" y="1158840"/>
            <a:ext cx="3962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You know what they say about eating an elephant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2280" y="304560"/>
            <a:ext cx="3810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Stretch our definitions of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Acqui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Wiggins &amp; McTig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629400" y="3720960"/>
            <a:ext cx="2181240" cy="288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Users\Valued Customer\AppData\Local\Microsoft\Windows\Temporary Internet Files\Content.IE5\1QJSI587\MPj04305290000[1].jpg"/>
          <p:cNvPicPr/>
          <p:nvPr/>
        </p:nvPicPr>
        <p:blipFill>
          <a:blip r:embed="rId2"/>
          <a:stretch/>
        </p:blipFill>
        <p:spPr>
          <a:xfrm>
            <a:off x="4040280" y="0"/>
            <a:ext cx="510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360" y="-360"/>
            <a:ext cx="380988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will kids learn from this that they can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transfe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into new work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thinking skills 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does this lesson involv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is the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student learning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? (Content or procedure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1" descr="C:\Users\Valued Customer\AppData\Local\Microsoft\Windows\Temporary Internet Files\Content.IE5\PM4R9IVN\MPj04317910000[1].jpg"/>
          <p:cNvPicPr/>
          <p:nvPr/>
        </p:nvPicPr>
        <p:blipFill>
          <a:blip r:embed="rId1"/>
          <a:srcRect l="21111" t="0" r="0" b="0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560" y="3504960"/>
            <a:ext cx="921996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ow can/should technolo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elp with </a:t>
            </a: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differenti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support </a:t>
            </a: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authentic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tasks and audienc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connect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kids to other kids? To exper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old tech practices should we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jettison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C:\Users\Valued Customer\AppData\Local\Microsoft\Windows\Temporary Internet Files\Content.IE5\1QJSI587\MPj04308400000[1].jpg"/>
          <p:cNvPicPr/>
          <p:nvPr/>
        </p:nvPicPr>
        <p:blipFill>
          <a:blip r:embed="rId1"/>
          <a:stretch/>
        </p:blipFill>
        <p:spPr>
          <a:xfrm>
            <a:off x="2362320" y="0"/>
            <a:ext cx="4570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Valued Customer\AppData\Local\Microsoft\Windows\Temporary Internet Files\Content.IE5\PM4R9IVN\MPj04118110000[1].jpg"/>
          <p:cNvPicPr/>
          <p:nvPr/>
        </p:nvPicPr>
        <p:blipFill>
          <a:blip r:embed="rId1"/>
          <a:stretch/>
        </p:blipFill>
        <p:spPr>
          <a:xfrm>
            <a:off x="4572000" y="3240"/>
            <a:ext cx="4572000" cy="6854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380880" y="844560"/>
            <a:ext cx="3581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What will </a:t>
            </a:r>
            <a:r>
              <a:rPr b="0" lang="en-US" sz="4000" spc="-1" strike="noStrike">
                <a:solidFill>
                  <a:srgbClr val="c00000"/>
                </a:solidFill>
                <a:latin typeface="Aharoni"/>
                <a:ea typeface="Aharoni"/>
              </a:rPr>
              <a:t>motivate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kids to do better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What’s </a:t>
            </a:r>
            <a:r>
              <a:rPr b="0" lang="en-US" sz="4000" spc="-1" strike="noStrike">
                <a:solidFill>
                  <a:srgbClr val="c00000"/>
                </a:solidFill>
                <a:latin typeface="Aharoni"/>
                <a:ea typeface="Aharoni"/>
              </a:rPr>
              <a:t>in it 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for the k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Valued Customer\AppData\Local\Microsoft\Windows\Temporary Internet Files\Content.IE5\PM4R9IVN\MPj04388110000[1].jpg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0" y="152280"/>
            <a:ext cx="8915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haroni"/>
                <a:ea typeface="Aharoni"/>
              </a:rPr>
              <a:t>What will your children, grandchildren, nieces, nephews, or students need to know and be able to do to thrive in the fut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C:\Users\Valued Customer\AppData\Local\Microsoft\Windows\Temporary Internet Files\Content.IE5\1QJSI587\MPj04394410000[1].jpg"/>
          <p:cNvPicPr/>
          <p:nvPr/>
        </p:nvPicPr>
        <p:blipFill>
          <a:blip r:embed="rId1"/>
          <a:stretch/>
        </p:blipFill>
        <p:spPr>
          <a:xfrm>
            <a:off x="1219320" y="2441520"/>
            <a:ext cx="6613560" cy="4416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do we develop </a:t>
            </a: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responsibility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in stud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do we help students develop </a:t>
            </a:r>
            <a:br>
              <a:rPr sz="2800"/>
            </a:b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self-assessment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skil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will we help students develop </a:t>
            </a: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flexible mindsets 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for problem-solv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4191120" y="4952880"/>
            <a:ext cx="4495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-228600" y="5334120"/>
            <a:ext cx="5105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304920" y="533520"/>
            <a:ext cx="579096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haroni"/>
                <a:ea typeface="Aharoni"/>
              </a:rPr>
              <a:t>NEW PARADIGM: PLANNING FOR AN UNCERTAIN FUT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Acquisition of information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Thinking skills+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Flexible work habits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Personal investment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Means of sharing thinking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______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su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562720" y="76320"/>
            <a:ext cx="1112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http://flickr.com/photos/chanc/351615573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C:\Users\Valued Customer\AppData\Local\Microsoft\Windows\Temporary Internet Files\Content.IE5\EP8LUSS3\MPj04014100000[1].jpg"/>
          <p:cNvPicPr/>
          <p:nvPr/>
        </p:nvPicPr>
        <p:blipFill>
          <a:blip r:embed="rId1"/>
          <a:srcRect l="0" t="0" r="43078" b="0"/>
          <a:stretch/>
        </p:blipFill>
        <p:spPr>
          <a:xfrm>
            <a:off x="6022800" y="0"/>
            <a:ext cx="31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3006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5791320" y="2590920"/>
            <a:ext cx="373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to be continu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5334120" y="6411960"/>
            <a:ext cx="102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3152"/>
                </a:solidFill>
                <a:latin typeface="Calibri"/>
              </a:rPr>
              <a:t>References list available upon requ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3152"/>
                </a:solidFill>
                <a:latin typeface="Calibri"/>
              </a:rPr>
              <a:t>Image: http://en.wikipedia.org/wiki/Image:Rosie_the_Riveter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font\AppData\Local\Microsoft\Windows\Temporary Internet Files\Content.IE5\RZG5UXHD\MPj04012890000[1].jpg"/>
          <p:cNvPicPr/>
          <p:nvPr/>
        </p:nvPicPr>
        <p:blipFill>
          <a:blip r:embed="rId1"/>
          <a:stretch/>
        </p:blipFill>
        <p:spPr>
          <a:xfrm>
            <a:off x="-1147680" y="0"/>
            <a:ext cx="10291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457200" y="0"/>
            <a:ext cx="4724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Like the politicians say, it’s time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ch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We hav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transfor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how and w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we t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2682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105520" y="2743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Partnership for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haroni"/>
                <a:ea typeface="Aharon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Centur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http://www.21stcenturyskill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-1523880" y="4495680"/>
            <a:ext cx="129538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065320" cy="2666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685800" y="601992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 for the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haroni"/>
                <a:ea typeface="Aharon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Century Lea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www.ala.org/aa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6003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380880" y="2590920"/>
            <a:ext cx="320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STE - NETS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iste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4"/>
          <a:srcRect l="0" t="0" r="0" b="73339"/>
          <a:stretch/>
        </p:blipFill>
        <p:spPr>
          <a:xfrm>
            <a:off x="5638680" y="3886200"/>
            <a:ext cx="285768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5943600" y="571500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SCD Whol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Ascd.org or wholechildeducation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-360" y="3045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Healthy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kids &amp;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Intellectually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challenging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Physically &amp; emotionally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Connect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to school &amp;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Personaliz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Qualified, caring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Prepar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for college/further study &amp; global enviro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69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cxnSp>
        <p:nvCxnSpPr>
          <p:cNvPr id="71" name="Straight Arrow Connector 3"/>
          <p:cNvCxnSpPr/>
          <p:nvPr/>
        </p:nvCxnSpPr>
        <p:spPr>
          <a:xfrm flipH="1" flipV="1">
            <a:off x="5562360" y="4876200"/>
            <a:ext cx="1372320" cy="1067400"/>
          </a:xfrm>
          <a:prstGeom prst="straightConnector1">
            <a:avLst/>
          </a:prstGeom>
          <a:ln w="88920">
            <a:solidFill>
              <a:srgbClr val="c0504d"/>
            </a:solidFill>
            <a:miter/>
            <a:tailEnd len="med" type="arrow" w="med"/>
          </a:ln>
        </p:spPr>
      </p:cxnSp>
      <p:grpSp>
        <p:nvGrpSpPr>
          <p:cNvPr id="72" name="TextBox 4"/>
          <p:cNvGrpSpPr/>
          <p:nvPr/>
        </p:nvGrpSpPr>
        <p:grpSpPr>
          <a:xfrm>
            <a:off x="-201600" y="5735520"/>
            <a:ext cx="9401040" cy="1195560"/>
            <a:chOff x="-201600" y="5735520"/>
            <a:chExt cx="9401040" cy="1195560"/>
          </a:xfrm>
        </p:grpSpPr>
        <p:pic>
          <p:nvPicPr>
            <p:cNvPr id="73" name="TextBox 4" descr=""/>
            <p:cNvPicPr/>
            <p:nvPr/>
          </p:nvPicPr>
          <p:blipFill>
            <a:blip r:embed="rId2"/>
            <a:stretch/>
          </p:blipFill>
          <p:spPr>
            <a:xfrm>
              <a:off x="-201600" y="5735520"/>
              <a:ext cx="9401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0" y="5842080"/>
              <a:ext cx="9144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</a:rPr>
                <a:t>How will BPS address this for all teachers? How can we address this for one another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rcRect l="59054" t="64466" r="13339" b="0"/>
          <a:stretch/>
        </p:blipFill>
        <p:spPr>
          <a:xfrm>
            <a:off x="5029200" y="3657600"/>
            <a:ext cx="2209680" cy="222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35246" t="34053" r="15238" b="34334"/>
          <a:stretch/>
        </p:blipFill>
        <p:spPr>
          <a:xfrm>
            <a:off x="3124080" y="1752480"/>
            <a:ext cx="3962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9:29:49Z</dcterms:created>
  <dc:creator>Kristin Fontichiaro</dc:creator>
  <dc:description/>
  <dc:language>en-US</dc:language>
  <cp:lastModifiedBy>Kristin Fontichiaro</cp:lastModifiedBy>
  <dcterms:modified xsi:type="dcterms:W3CDTF">2008-11-05T02:35:08Z</dcterms:modified>
  <cp:revision>121</cp:revision>
  <dc:subject/>
  <dc:title>Thinking Thoughtfully About Technology and Standards</dc:title>
</cp:coreProperties>
</file>