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F34B-5EB0-4D6B-97C0-D0CA5F6BB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8ECA-3574-4739-A670-B6D141875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8D6D-58DE-4863-B43C-62899F400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58D7-FBAD-425C-A7F3-749D857AF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A535-3D70-4A2D-BE38-DFA93E8D4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E889-E5EC-499D-8A0D-99463D72D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723F-8FD8-40B7-9025-F173F387A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B168-E011-48D1-A936-874CA8328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D020-5613-4AF2-9805-96C8CA8F1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2940-5BCD-433E-B8CF-DAE42E6D9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E380-E9F8-41FB-B480-7D09BA1F7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3FD-A80A-41FC-A3B8-A4DD9A0C5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AED9-8B6D-4136-BDB7-27FA103CD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AF09-15C9-48A7-8466-0A21BCAC4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FA52-C9DF-4C08-B2F9-66A62EAE6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7D0D-6FF9-4566-8535-AC9791854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0BB3-8F9E-4969-BAAD-7D649A93B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B65D-8278-4B3E-BD51-08C568D86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8C2-2D2B-4EF4-BD21-5B2905D3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FD3-1402-40CF-A01D-1143FEAB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FA4-12CA-4E29-965D-D93B79F9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67E-20E2-455C-BD9F-C9F659C2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7AB-2450-429B-9265-14341092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B54-7FCE-42B9-B17C-7D60C99A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ADE-A610-4DCE-8D46-EAEDEE6F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EE6-9F56-461E-9C03-3B667C15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E2D-B97C-43FD-9AD6-912C9766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25A-B0EE-4F66-8CAD-F9D61981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284-02D1-45E1-B553-8A4034F2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EAD-9090-4FE7-825D-CFC15E8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3A29-2DF1-4774-80E8-94565C774A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RAYH10OK\MPj03856430000[1].jpg"/>
          <p:cNvPicPr/>
          <p:nvPr/>
        </p:nvPicPr>
        <p:blipFill>
          <a:blip r:embed="rId1"/>
          <a:stretch/>
        </p:blipFill>
        <p:spPr>
          <a:xfrm>
            <a:off x="-3808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19320" y="2021040"/>
            <a:ext cx="57909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Brush Script MT"/>
                <a:ea typeface="Microsoft JhengHei"/>
              </a:rPr>
              <a:t>To the post-NCLB Worl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qui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think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itical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gain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raw conclu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make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formed deci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eate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new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and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articipat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ethical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roductive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s members of our democratic society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ersonal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esthetic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growth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The  Four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0" y="0"/>
            <a:ext cx="914400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More Than Skills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ubsections for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kil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isposi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elf-assess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udent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4191120" y="1600200"/>
            <a:ext cx="49528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9375" t="15000" r="19376" b="17003"/>
          <a:stretch/>
        </p:blipFill>
        <p:spPr>
          <a:xfrm>
            <a:off x="-54000" y="1447920"/>
            <a:ext cx="919800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0" y="312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How do we get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there</a:t>
            </a: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 from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font\AppData\Local\Microsoft\Windows\Temporary Internet Files\Content.IE5\B9GJ1140\MPj04277510000[1].jpg"/>
          <p:cNvPicPr/>
          <p:nvPr/>
        </p:nvPicPr>
        <p:blipFill>
          <a:blip r:embed="rId1"/>
          <a:stretch/>
        </p:blipFill>
        <p:spPr>
          <a:xfrm>
            <a:off x="0" y="0"/>
            <a:ext cx="46674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4876920" y="1158840"/>
            <a:ext cx="396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You know what they say about eating an elephant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2280" y="304560"/>
            <a:ext cx="3810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Stretch our definitions of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cqui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Wiggins &amp; McTig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629400" y="3720960"/>
            <a:ext cx="2181240" cy="288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Valued Customer\AppData\Local\Microsoft\Windows\Temporary Internet Files\Content.IE5\1QJSI587\MPj04305290000[1].jpg"/>
          <p:cNvPicPr/>
          <p:nvPr/>
        </p:nvPicPr>
        <p:blipFill>
          <a:blip r:embed="rId2"/>
          <a:stretch/>
        </p:blipFill>
        <p:spPr>
          <a:xfrm>
            <a:off x="4040280" y="0"/>
            <a:ext cx="510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360" y="-360"/>
            <a:ext cx="380988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will kids learn from this that they can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ransfe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into new work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hinking skills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oes this lesson involv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is the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student learn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 (Content or procedure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1" descr="C:\Users\Valued Customer\AppData\Local\Microsoft\Windows\Temporary Internet Files\Content.IE5\PM4R9IVN\MPj04317910000[1].jpg"/>
          <p:cNvPicPr/>
          <p:nvPr/>
        </p:nvPicPr>
        <p:blipFill>
          <a:blip r:embed="rId1"/>
          <a:srcRect l="21111" t="0" r="0" b="0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560" y="3504960"/>
            <a:ext cx="92199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ow can/should technolo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elp with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differenti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support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authentic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tasks and audien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kids to other kids? To expe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old tech practices should we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jettison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C:\Users\Valued Customer\AppData\Local\Microsoft\Windows\Temporary Internet Files\Content.IE5\1QJSI587\MPj04308400000[1].jpg"/>
          <p:cNvPicPr/>
          <p:nvPr/>
        </p:nvPicPr>
        <p:blipFill>
          <a:blip r:embed="rId1"/>
          <a:stretch/>
        </p:blipFill>
        <p:spPr>
          <a:xfrm>
            <a:off x="2362320" y="0"/>
            <a:ext cx="4570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Valued Customer\AppData\Local\Microsoft\Windows\Temporary Internet Files\Content.IE5\PM4R9IVN\MPj04118110000[1].jpg"/>
          <p:cNvPicPr/>
          <p:nvPr/>
        </p:nvPicPr>
        <p:blipFill>
          <a:blip r:embed="rId1"/>
          <a:stretch/>
        </p:blipFill>
        <p:spPr>
          <a:xfrm>
            <a:off x="4572000" y="3240"/>
            <a:ext cx="4572000" cy="6854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80880" y="844560"/>
            <a:ext cx="358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 will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motivat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kids to do better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’s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in it 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for the k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152280"/>
            <a:ext cx="8915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haroni"/>
                <a:ea typeface="Aharoni"/>
              </a:rPr>
              <a:t>What will your children, grandchildren, nieces, nephews, o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C:\Users\Valued Customer\AppData\Local\Microsoft\Windows\Temporary Internet Files\Content.IE5\1QJSI587\MPj04394410000[1].jpg"/>
          <p:cNvPicPr/>
          <p:nvPr/>
        </p:nvPicPr>
        <p:blipFill>
          <a:blip r:embed="rId1"/>
          <a:stretch/>
        </p:blipFill>
        <p:spPr>
          <a:xfrm>
            <a:off x="1219320" y="2441520"/>
            <a:ext cx="6613560" cy="4416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responsibility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in stud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help students develop 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self-assessmen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skil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will we help students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flexible mindsets 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for problem-solv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4191120" y="4952880"/>
            <a:ext cx="4495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-228600" y="5334120"/>
            <a:ext cx="5105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304920" y="533520"/>
            <a:ext cx="579096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haroni"/>
                <a:ea typeface="Aharoni"/>
              </a:rPr>
              <a:t>NEW PARADIGM: PLANNING FOR AN UNCERTAIN FU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Acquisition of information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Thinking skills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Flexible work habits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Personal investment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Means of sharing thinking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su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562720" y="76320"/>
            <a:ext cx="1112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http://flickr.com/photos/chanc/351615573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C:\Users\Valued Customer\AppData\Local\Microsoft\Windows\Temporary Internet Files\Content.IE5\EP8LUSS3\MPj04014100000[1].jpg"/>
          <p:cNvPicPr/>
          <p:nvPr/>
        </p:nvPicPr>
        <p:blipFill>
          <a:blip r:embed="rId1"/>
          <a:srcRect l="0" t="0" r="43078" b="0"/>
          <a:stretch/>
        </p:blipFill>
        <p:spPr>
          <a:xfrm>
            <a:off x="6022800" y="0"/>
            <a:ext cx="31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006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5791320" y="2590920"/>
            <a:ext cx="373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to be continu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334120" y="6411960"/>
            <a:ext cx="102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References list available upon requ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Image: http://en.wikipedia.org/wiki/Image:Rosie_the_Riveter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font\AppData\Local\Microsoft\Windows\Temporary Internet Files\Content.IE5\RZG5UXHD\MPj04012890000[1].jpg"/>
          <p:cNvPicPr/>
          <p:nvPr/>
        </p:nvPicPr>
        <p:blipFill>
          <a:blip r:embed="rId1"/>
          <a:stretch/>
        </p:blipFill>
        <p:spPr>
          <a:xfrm>
            <a:off x="-1147680" y="0"/>
            <a:ext cx="10291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57200" y="0"/>
            <a:ext cx="4724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Like the politicians say, it’s tim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transfor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how and w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t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Partnership fo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 for the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5943600" y="571500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Healthy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ntellectu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halleng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Physically &amp; emotion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onnect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ersonaliz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Qualified, caring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repar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6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3"/>
          <p:cNvCxnSpPr/>
          <p:nvPr/>
        </p:nvCxnSpPr>
        <p:spPr>
          <a:xfrm flipH="1" flipV="1">
            <a:off x="5562360" y="4876200"/>
            <a:ext cx="1372320" cy="1067400"/>
          </a:xfrm>
          <a:prstGeom prst="straightConnector1">
            <a:avLst/>
          </a:prstGeom>
          <a:ln w="8892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72" name="TextBox 4"/>
          <p:cNvGrpSpPr/>
          <p:nvPr/>
        </p:nvGrpSpPr>
        <p:grpSpPr>
          <a:xfrm>
            <a:off x="-201600" y="5735520"/>
            <a:ext cx="9401040" cy="1195560"/>
            <a:chOff x="-201600" y="5735520"/>
            <a:chExt cx="9401040" cy="1195560"/>
          </a:xfrm>
        </p:grpSpPr>
        <p:pic>
          <p:nvPicPr>
            <p:cNvPr id="73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735520"/>
              <a:ext cx="9401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0" y="5842080"/>
              <a:ext cx="9144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How will BPS address this for all teachers? How can we address this for one another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8-11-05T02:35:08Z</dcterms:modified>
  <cp:revision>121</cp:revision>
  <dc:subject/>
  <dc:title>Thinking Thoughtfully About Technology and Standards</dc:title>
</cp:coreProperties>
</file>