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7FB98-10C2-437E-B8E7-626A4E03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9478-925D-4668-98F1-A9A534DC8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5CDD-BD64-4D5A-8881-581ED5651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882ED-4196-4EE6-BED9-9B5FFF431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5833E-A651-4EC7-9AA2-7F69CF57C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B7FBE-133A-4E27-BC6F-514EA675A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F40A-E63B-4E2E-9102-6F0C9C1F5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576D5-4E1B-40F0-8830-F468E5FFB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880A5-5B25-4134-ADDE-4DD6D9FD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63975-77D5-4B60-81D4-58E7CC692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C1A6-A8CC-464B-8010-B7C246B9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39828-641F-4A48-9A44-3B5E22DF6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DC79-7A9D-4810-8B44-97F6A926F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 </a:t>
            </a:r>
            <a:r>
              <a:rPr b="1" i="1" lang="en-US" sz="4400" spc="-1" strike="noStrike">
                <a:solidFill>
                  <a:srgbClr val="000000"/>
                </a:solidFill>
                <a:latin typeface="Times New Roman"/>
              </a:rPr>
              <a:t>Fake But Funny</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has created an 'alternative' BHS Web site.  His site satirizes school activities, contains doctored photos of staff members, and make makes fun of fellow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a:t>
            </a:r>
            <a:r>
              <a:rPr b="1" i="1" lang="en-US" sz="4000" spc="-1" strike="noStrike">
                <a:solidFill>
                  <a:srgbClr val="000000"/>
                </a:solidFill>
                <a:latin typeface="Times New Roman"/>
              </a:rPr>
              <a:t>You Too, YouTube?</a:t>
            </a:r>
            <a:br>
              <a:rPr sz="4000"/>
            </a:b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mont discovers that the web site </a:t>
            </a:r>
            <a:r>
              <a:rPr b="0" i="1" lang="en-US" sz="3200" spc="-1" strike="noStrike">
                <a:solidFill>
                  <a:srgbClr val="000000"/>
                </a:solidFill>
                <a:latin typeface="Times New Roman"/>
              </a:rPr>
              <a:t>YouTube</a:t>
            </a:r>
            <a:r>
              <a:rPr b="0" lang="en-US" sz="3200" spc="-1" strike="noStrike">
                <a:solidFill>
                  <a:srgbClr val="000000"/>
                </a:solidFill>
                <a:latin typeface="Times New Roman"/>
              </a:rPr>
              <a:t> has been blocked by the District but he really needs to show a video for his presentation next hour.   He gets his friend Warren to show him how to use a proxy server to access </a:t>
            </a:r>
            <a:r>
              <a:rPr b="0" i="1" lang="en-US" sz="3200" spc="-1" strike="noStrike">
                <a:solidFill>
                  <a:srgbClr val="000000"/>
                </a:solidFill>
                <a:latin typeface="Times New Roman"/>
              </a:rPr>
              <a:t>YouTub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a:t>
            </a:r>
            <a:r>
              <a:rPr b="1" i="1" lang="en-US" sz="4400" spc="-1" strike="noStrike">
                <a:solidFill>
                  <a:srgbClr val="000000"/>
                </a:solidFill>
                <a:latin typeface="Times New Roman"/>
              </a:rPr>
              <a:t>Naughty Nur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thirteen-year-old Alice tells the other people on her </a:t>
            </a:r>
            <a:r>
              <a:rPr b="0" i="1" lang="en-US" sz="3200" spc="-1" strike="noStrike">
                <a:solidFill>
                  <a:srgbClr val="000000"/>
                </a:solidFill>
                <a:latin typeface="Times New Roman"/>
              </a:rPr>
              <a:t>MySpace</a:t>
            </a:r>
            <a:r>
              <a:rPr b="0" lang="en-US" sz="3200" spc="-1" strike="noStrike">
                <a:solidFill>
                  <a:srgbClr val="000000"/>
                </a:solidFill>
                <a:latin typeface="Times New Roman"/>
              </a:rPr>
              <a:t> site that she is twenty years old and a nursing student. Others on the list have begun emailing her health-related questions but she hasn't answered them y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t>
            </a:r>
            <a:r>
              <a:rPr b="1" i="1" lang="en-US" sz="4400" spc="-1" strike="noStrike">
                <a:solidFill>
                  <a:srgbClr val="000000"/>
                </a:solidFill>
                <a:latin typeface="Times New Roman"/>
              </a:rPr>
              <a:t>Printer Pran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Nellie sets the print command on her computer in the Innovation Center to print 50 copies of an article on </a:t>
            </a:r>
            <a:r>
              <a:rPr b="0" i="1" lang="en-US" sz="3200" spc="-1" strike="noStrike">
                <a:solidFill>
                  <a:srgbClr val="000000"/>
                </a:solidFill>
                <a:latin typeface="Times New Roman"/>
              </a:rPr>
              <a:t>L’il Wayne</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t>
            </a:r>
            <a:r>
              <a:rPr b="1" i="1" lang="en-US" sz="4400" spc="-1" strike="noStrike">
                <a:solidFill>
                  <a:srgbClr val="000000"/>
                </a:solidFill>
                <a:latin typeface="Times New Roman"/>
              </a:rPr>
              <a:t>Music Mayh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y has been using </a:t>
            </a:r>
            <a:r>
              <a:rPr b="0" i="1" lang="en-US" sz="3200" spc="-1" strike="noStrike">
                <a:solidFill>
                  <a:srgbClr val="000000"/>
                </a:solidFill>
                <a:latin typeface="Times New Roman"/>
              </a:rPr>
              <a:t>LimeWire </a:t>
            </a:r>
            <a:r>
              <a:rPr b="0" lang="en-US" sz="3200" spc="-1" strike="noStrike">
                <a:solidFill>
                  <a:srgbClr val="000000"/>
                </a:solidFill>
                <a:latin typeface="Times New Roman"/>
              </a:rPr>
              <a:t>to download all of his favorite songs, saving them on his hard drive, and then loading them to his MP3 play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 </a:t>
            </a:r>
            <a:r>
              <a:rPr b="1" i="1" lang="en-US" sz="4000" spc="-1" strike="noStrike">
                <a:solidFill>
                  <a:srgbClr val="000000"/>
                </a:solidFill>
                <a:latin typeface="Times New Roman"/>
              </a:rPr>
              <a:t>Phone Follies</a:t>
            </a:r>
            <a:br>
              <a:rPr sz="4000"/>
            </a:b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is bored in her Math class.  She uses her cell phone to send a text message to her boyfriend, Joe, who's already a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a:t>
            </a:r>
            <a:r>
              <a:rPr b="1" i="1" lang="en-US" sz="4400" spc="-1" strike="noStrike">
                <a:solidFill>
                  <a:srgbClr val="000000"/>
                </a:solidFill>
                <a:latin typeface="Times New Roman"/>
              </a:rPr>
              <a:t>He Didn't Start the Fir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ul is creating a videotape for his history class.  As background music he is using Billy Joel's song "We Didn't Start the Fire" that he has digitized from a CD he owns.  The projects will compete within BHS and winners will advance to regional compet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a:t>
            </a:r>
            <a:r>
              <a:rPr b="1" i="1" lang="en-US" sz="4400" spc="-1" strike="noStrike">
                <a:solidFill>
                  <a:srgbClr val="000000"/>
                </a:solidFill>
                <a:latin typeface="Times New Roman"/>
              </a:rPr>
              <a:t>© You Lat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ita is rightfully proud of her personal Internet site.  She has found pictures, cartoons, and sayings on the Web and copied them to her site.  She links to lots of other favorite sites.  She is careful to use things that did not have a copyright symbol [ © ]   Is ther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7. </a:t>
            </a:r>
            <a:r>
              <a:rPr b="1" i="1" lang="en-US" sz="4400" spc="-1" strike="noStrike">
                <a:solidFill>
                  <a:srgbClr val="000000"/>
                </a:solidFill>
                <a:latin typeface="Times New Roman"/>
              </a:rPr>
              <a:t>Viral Vir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s friend, John, has discovered the password to BHS' student information system, Skyward.  John feels a teacher has unfairly given him a bad grade, so he plans to create a "virus" to bring down Skyward.  Eli tells his Dad about John's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8. </a:t>
            </a:r>
            <a:r>
              <a:rPr b="1" i="1" lang="en-US" sz="4400" spc="-1" strike="noStrike">
                <a:solidFill>
                  <a:srgbClr val="000000"/>
                </a:solidFill>
                <a:latin typeface="Times New Roman"/>
              </a:rPr>
              <a:t>Overdue and Overzealou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Nerdly, the school library media specialist, posts lists of overdue materials on the school Internet.  The list includes student names and titles of the materials they checked o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1" i="1" lang="en-US" sz="4000" spc="-1" strike="noStrike">
                <a:solidFill>
                  <a:srgbClr val="000000"/>
                </a:solidFill>
                <a:latin typeface="Times New Roman"/>
              </a:rPr>
              <a:t>Problems With The Prez</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rone is running for class president.  Using the high school email service, he sends messages to all of the students in his class explaining his platform and the actions he would take as presid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a:t>
            </a:r>
            <a:r>
              <a:rPr b="1" i="1" lang="en-US" sz="4000" spc="-1" strike="noStrike">
                <a:solidFill>
                  <a:srgbClr val="000000"/>
                </a:solidFill>
                <a:latin typeface="Times New Roman"/>
              </a:rPr>
              <a:t>Credit Card Caper</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has her mom’s credit card.  While looking for music for a presentation at school, she finds a CD that she wants.  She goes ahead and orders it using the credit c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t>
            </a:r>
            <a:r>
              <a:rPr b="0" i="1" lang="en-US" sz="4400" spc="-1" strike="noStrike">
                <a:solidFill>
                  <a:srgbClr val="000000"/>
                </a:solidFill>
                <a:latin typeface="Times New Roman"/>
              </a:rPr>
              <a:t>Keys are Ke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an is bored in the computer lab and discovers that the keys on the keyboard can be pulled off.  Just for fun, she shuffles the letters A and 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t>
            </a:r>
            <a:r>
              <a:rPr b="1" i="1" lang="en-US" sz="4000" spc="-1" strike="noStrike">
                <a:solidFill>
                  <a:srgbClr val="000000"/>
                </a:solidFill>
                <a:latin typeface="Times New Roman"/>
              </a:rPr>
              <a:t>Password Peril</a:t>
            </a:r>
            <a:br>
              <a:rPr sz="4000"/>
            </a:b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never changed his password for his Berkley network log-in and H:drive access. His buddy, Lyle, has figured this out.  Joel has found that several documents are missing from his online storag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a:t>
            </a:r>
            <a:r>
              <a:rPr b="1" i="1" lang="en-US" sz="4400" spc="-1" strike="noStrike">
                <a:solidFill>
                  <a:srgbClr val="000000"/>
                </a:solidFill>
                <a:latin typeface="Times New Roman"/>
              </a:rPr>
              <a:t>Family Room Bl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atecia's house, the computer with Internet access is in the family room.  Latecia asks her mother to let her have a computer with Internet access in her room, especially since her little brothers make it difficult for her to concentrate when on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a:t>
            </a:r>
            <a:r>
              <a:rPr b="1" i="1" lang="en-US" sz="4000" spc="-1" strike="noStrike">
                <a:solidFill>
                  <a:srgbClr val="000000"/>
                </a:solidFill>
                <a:latin typeface="Times New Roman"/>
              </a:rPr>
              <a:t>Monstrous Monster Truck</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rry borrows Ben's game disks for Monster Truck Rally II and installs them on his home computer. He says he will erase the game if he does not like it, or will buy the game for himself if he likes it.  Jerry has been using the game now for over a month and has not erased it from his computer and has not bought his own co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a:t>
            </a:r>
            <a:r>
              <a:rPr b="1" i="1" lang="en-US" sz="4000" spc="-1" strike="noStrike">
                <a:solidFill>
                  <a:srgbClr val="000000"/>
                </a:solidFill>
                <a:latin typeface="Times New Roman"/>
              </a:rPr>
              <a:t>Footloose Footnote</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ndy finds good information about plant growth nutrients for her Botany class on a CD-ROM Science Encyclopedia.  She copies and pastes a paragraph from the article into her report. When she writes her report, Cindy lists the CD-ROM on her works cited 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a:t>
            </a:r>
            <a:r>
              <a:rPr b="1" i="1" lang="en-US" sz="4400" spc="-1" strike="noStrike">
                <a:solidFill>
                  <a:srgbClr val="000000"/>
                </a:solidFill>
                <a:latin typeface="Times New Roman"/>
              </a:rPr>
              <a:t>Finders Keep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oya finds a flashdrive  in the LMC.  There’s no name on it so she decides to use it for a while, until someone asks for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SD</cp:lastModifiedBy>
  <dcterms:modified xsi:type="dcterms:W3CDTF">2008-11-17T15:37:28Z</dcterms:modified>
  <cp:revision>33</cp:revision>
  <dc:subject/>
  <dc:title>PowerPoint Presentation</dc:title>
</cp:coreProperties>
</file>