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0DE-F1E4-4F61-9A55-014D3E22D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B0D3-61FA-41AF-8396-02BC318DB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EDB4-C41E-49A6-A449-7E5878DBE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D015-6F10-4AFA-98BF-2FCB0C33F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4816-4955-4D1B-B02F-87B84A265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3AE-D40C-4B7C-ADF5-4D4155D9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D8C-3812-44F0-B7D4-8618F006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5D7-CBE4-4A62-AF10-4EE64F3A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83F-F7C2-41C6-8893-889E80D4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06D-100A-42E4-A8AC-919819FC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088-79F9-462C-A15C-2ABD135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61A-7D6C-4F97-84D5-B91C973E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FA1-CF76-4D7A-9466-4E4BDC24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09A-DBA2-40E8-8397-1A4014EC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953-5F23-4FF5-A494-39485470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CD7-2AAF-4CD4-9470-B89F909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8EE-9036-4206-AA61-5CA0DF7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CFE7-4013-4FDB-B4EF-6EBEA1AC0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atoday.com/news/education/2009-03-04-core-knowledge_N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28600" y="4572000"/>
            <a:ext cx="86868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"We need kids who don't just do what they're told but who are self-directed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en Kay, 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Century Skills ~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290600" y="0"/>
            <a:ext cx="67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7001" r="16252" b="4998"/>
          <a:stretch/>
        </p:blipFill>
        <p:spPr>
          <a:xfrm>
            <a:off x="17640" y="0"/>
            <a:ext cx="9050040" cy="5943600"/>
          </a:xfrm>
          <a:prstGeom prst="rect">
            <a:avLst/>
          </a:prstGeom>
          <a:ln w="0">
            <a:noFill/>
          </a:ln>
        </p:spPr>
      </p:pic>
      <p:grpSp>
        <p:nvGrpSpPr>
          <p:cNvPr id="83" name="Rectangle 2"/>
          <p:cNvGrpSpPr/>
          <p:nvPr/>
        </p:nvGrpSpPr>
        <p:grpSpPr>
          <a:xfrm>
            <a:off x="1603440" y="5962680"/>
            <a:ext cx="5921640" cy="743040"/>
            <a:chOff x="1603440" y="5962680"/>
            <a:chExt cx="5921640" cy="743040"/>
          </a:xfrm>
        </p:grpSpPr>
        <p:pic>
          <p:nvPicPr>
            <p:cNvPr id="84" name="Rectangle 2" descr=""/>
            <p:cNvPicPr/>
            <p:nvPr/>
          </p:nvPicPr>
          <p:blipFill>
            <a:blip r:embed="rId2"/>
            <a:stretch/>
          </p:blipFill>
          <p:spPr>
            <a:xfrm>
              <a:off x="1616040" y="5962680"/>
              <a:ext cx="58579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603440" y="6075360"/>
              <a:ext cx="592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Gill Sans MT"/>
                </a:rPr>
                <a:t>http://remc12.wikispaces.com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8124" t="15000" r="16252" b="4002"/>
          <a:stretch/>
        </p:blipFill>
        <p:spPr>
          <a:xfrm>
            <a:off x="533520" y="38088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Valued Customer\AppData\Local\Microsoft\Windows\Temporary Internet Files\Content.IE5\MF04FO1S\MPj04224860000[1].jpg"/>
          <p:cNvPicPr/>
          <p:nvPr/>
        </p:nvPicPr>
        <p:blipFill>
          <a:blip r:embed="rId1"/>
          <a:stretch/>
        </p:blipFill>
        <p:spPr>
          <a:xfrm>
            <a:off x="0" y="-944640"/>
            <a:ext cx="9753480" cy="7802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514600" y="571500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</a:rPr>
              <a:t>{ice cream break}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Valued Customer\AppData\Local\Microsoft\Windows\Temporary Internet Files\Content.IE5\CII5TUUQ\MPj03417750000[1].jpg"/>
          <p:cNvPicPr/>
          <p:nvPr/>
        </p:nvPicPr>
        <p:blipFill>
          <a:blip r:embed="rId1"/>
          <a:stretch/>
        </p:blipFill>
        <p:spPr>
          <a:xfrm>
            <a:off x="-466560" y="0"/>
            <a:ext cx="9610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-76320" y="0"/>
            <a:ext cx="3124440" cy="6858000"/>
          </a:xfrm>
          <a:prstGeom prst="rect">
            <a:avLst/>
          </a:prstGeom>
          <a:solidFill>
            <a:srgbClr val="1e1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Remember back on Friday night when we looked at the Colorado Learner’s Bill of Right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Now it’s your tur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Valued Customer\AppData\Local\Microsoft\Windows\Temporary Internet Files\Content.IE5\CII5TUUQ\MPj01490170000[1].jpg"/>
          <p:cNvPicPr/>
          <p:nvPr/>
        </p:nvPicPr>
        <p:blipFill>
          <a:blip r:embed="rId1"/>
          <a:stretch/>
        </p:blipFill>
        <p:spPr>
          <a:xfrm>
            <a:off x="304920" y="142236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nk like an entrepreneur ...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message do your students/teachers/administrators need to hear in order to bridge the perception g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Valued Customer\AppData\Local\Microsoft\Windows\Temporary Internet Files\Content.IE5\CII5TUUQ\MPj04392430000[1].jpg"/>
          <p:cNvPicPr/>
          <p:nvPr/>
        </p:nvPicPr>
        <p:blipFill>
          <a:blip r:embed="rId1"/>
          <a:srcRect l="0" t="21161" r="0" b="51781"/>
          <a:stretch/>
        </p:blipFill>
        <p:spPr>
          <a:xfrm>
            <a:off x="0" y="0"/>
            <a:ext cx="914400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28600" y="1752480"/>
            <a:ext cx="8458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</a:rPr>
              <a:t>Your Ta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 the conversations we’ve had to create a poster that might bridge that gap.  What is your manifesto about your relationship to student lear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ed a starting point? Consider these poster tit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r Library Can Do For Yo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 Can Expect From Your School Librar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e Can Help You Learn By ____________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0"/>
            <a:ext cx="8686800" cy="73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  <a:ea typeface="Aharoni"/>
              </a:rPr>
              <a:t>Hit the Ground Run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chool Library Media Activities Monthl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magaz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LMAM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blog.schoollibrarymedia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Knowledge Quest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jour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(free with ALA/AASL membership 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available through mel.or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 Librarian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magaz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Infomancy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 by Christopher Harr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schoolof.info/infomancy/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Valued Customer\AppData\Local\Microsoft\Windows\Temporary Internet Files\Content.IE5\CII5TUUQ\MPj04097570000[1].jpg"/>
          <p:cNvPicPr/>
          <p:nvPr/>
        </p:nvPicPr>
        <p:blipFill>
          <a:blip r:embed="rId1"/>
          <a:srcRect l="14173" t="0" r="10644" b="0"/>
          <a:stretch/>
        </p:blipFill>
        <p:spPr>
          <a:xfrm>
            <a:off x="70102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1876" t="13001" r="38126" b="6000"/>
          <a:stretch/>
        </p:blipFill>
        <p:spPr>
          <a:xfrm>
            <a:off x="1523880" y="228600"/>
            <a:ext cx="609624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563832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Valued Customer\AppData\Local\Microsoft\Windows\Temporary Internet Files\Content.IE5\33L5Q479\MPj04101500000[1].jpg"/>
          <p:cNvPicPr/>
          <p:nvPr/>
        </p:nvPicPr>
        <p:blipFill>
          <a:blip r:embed="rId1"/>
          <a:stretch/>
        </p:blipFill>
        <p:spPr>
          <a:xfrm>
            <a:off x="-1158840" y="0"/>
            <a:ext cx="103028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13379" t="22124" r="66876" b="49001"/>
          <a:stretch/>
        </p:blipFill>
        <p:spPr>
          <a:xfrm>
            <a:off x="-1440" y="1295280"/>
            <a:ext cx="5335560" cy="48769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38183" dir="135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4" name="Rectangle 2"/>
          <p:cNvSpPr/>
          <p:nvPr/>
        </p:nvSpPr>
        <p:spPr>
          <a:xfrm>
            <a:off x="5309640" y="624852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-685800" y="23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You don’t have to make this choi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d educational practice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requires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rcRect l="25627" t="20003" r="51250" b="30000"/>
          <a:stretch/>
        </p:blipFill>
        <p:spPr>
          <a:xfrm>
            <a:off x="4114800" y="61920"/>
            <a:ext cx="5029200" cy="679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52280" y="647712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Image: http://www.imdb.com/media/rm3534920960/tt0390521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28600" y="148896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On to the SuperSizing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52280" y="76320"/>
            <a:ext cx="8229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 MT"/>
                <a:ea typeface="Aharoni"/>
              </a:rPr>
              <a:t>Digging into the four standard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Valued Customer\AppData\Local\Microsoft\Windows\Temporary Internet Files\Content.IE5\33L5Q479\MPj04385860000[1].jpg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28600" y="1525680"/>
            <a:ext cx="2514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Work alone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Cut and paste items in all but last column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ark aha moments and advocacy/PR/ survival kit ideas in the last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71800" y="61722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ove quickly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52280" y="1031760"/>
            <a:ext cx="1120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To know the </a:t>
            </a:r>
            <a:r>
              <a:rPr b="1" i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Standards, </a:t>
            </a: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you have to interact with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  <a:ea typeface="Aharoni"/>
              </a:rPr>
              <a:t>Jigsaw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52280" y="1306440"/>
            <a:ext cx="3124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Divide into grou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Sh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aha moment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new information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problems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worrie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excitemen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Valued Customer\AppData\Local\Microsoft\Windows\Temporary Internet Files\Content.IE5\MF04FO1S\MPj04015980000[1].jpg"/>
          <p:cNvPicPr/>
          <p:nvPr/>
        </p:nvPicPr>
        <p:blipFill>
          <a:blip r:embed="rId2"/>
          <a:stretch/>
        </p:blipFill>
        <p:spPr>
          <a:xfrm>
            <a:off x="33526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Valued Customer\AppData\Local\Microsoft\Windows\Temporary Internet Files\Content.IE5\MF04FO1S\MPj04395360000[1].jpg"/>
          <p:cNvPicPr/>
          <p:nvPr/>
        </p:nvPicPr>
        <p:blipFill>
          <a:blip r:embed="rId1"/>
          <a:stretch/>
        </p:blipFill>
        <p:spPr>
          <a:xfrm>
            <a:off x="-2057400" y="830160"/>
            <a:ext cx="11201400" cy="6027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ole Group Reflec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at You Discusse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15228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From Gigi Lincoln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Visit REMC 12’s great </a:t>
            </a:r>
            <a:r>
              <a:rPr b="1" i="1" lang="en-US" sz="3500" spc="-1" strike="noStrike">
                <a:solidFill>
                  <a:srgbClr val="000000"/>
                </a:solidFill>
                <a:latin typeface="Gill Sans MT"/>
              </a:rPr>
              <a:t>Standards 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resource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ttp://remc12.wikispaces.co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27499" t="26003" r="43125" b="44002"/>
          <a:stretch/>
        </p:blipFill>
        <p:spPr>
          <a:xfrm>
            <a:off x="4043520" y="3505320"/>
            <a:ext cx="5252760" cy="3352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4"/>
          <p:cNvSpPr/>
          <p:nvPr/>
        </p:nvSpPr>
        <p:spPr>
          <a:xfrm>
            <a:off x="380880" y="4495680"/>
            <a:ext cx="3657600" cy="2057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Gigi being honored in NYC at the ALA/NYTimes “I Love My Librarian” a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0:01:49Z</dcterms:created>
  <dc:creator>Kristin Fontichiaro</dc:creator>
  <dc:description/>
  <dc:language>en-US</dc:language>
  <cp:lastModifiedBy>Kristin Fontichiaro</cp:lastModifiedBy>
  <dcterms:modified xsi:type="dcterms:W3CDTF">2009-03-09T02:58:01Z</dcterms:modified>
  <cp:revision>62</cp:revision>
  <dc:subject/>
  <dc:title>Slide 1</dc:title>
</cp:coreProperties>
</file>