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5DDD-BD63-4E57-BEA3-529096C40C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F4E7-D96C-440D-AE19-964D2383A2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5CBBB-8D95-45F0-8FAB-645DF4CC4F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28567-566D-4C92-A96E-E8EE0CC4E8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418C-F51A-4B73-8B91-B2D7DDA3E9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E1AF-0EAB-48E4-A89C-23DD11BB4A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DCDF-97E3-4C8A-9DF4-23C25EA36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2877-7AB5-404B-9D5E-E620EC1FF6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F65A-E12A-4641-B756-78774A0AFB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0E67B-35FB-4D16-A2C6-0E3C3E22BAA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5A9EE-FBF2-47DF-951C-49BB0EE7DE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9A027-28B6-4355-A883-91ABEA7486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8F570-72A0-4B86-854D-277EFD3169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7496-1D7B-4969-824F-46477E6337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F51CD-CC90-40D9-BA7D-42D318B887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7BCD-2B9C-4E67-9E65-A94BCB7CD1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BCE6-9C08-4B7C-A136-52B6185143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3DFC-3E6E-48EB-BC72-24F8CDD833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7E41-9E4F-4514-99C0-EE35FE2091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F35D-2CE5-40AB-8535-D98C77FD4B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5898-BE39-49CB-9BA4-1DE8597BF7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D4CD1-E79D-4DA9-B9D3-A29C66B96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3D5C-4411-4EBD-AA87-059B0DD3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3BD5-0CC1-4892-862B-29961C6DD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20ED-9AC6-4A6E-8E13-98DC2B023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5A16-0AA5-4EF4-9AC9-895E4FBA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D016-B248-4847-8F07-5E25AEF11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DBE-B848-4A1B-B3D6-45A4B73A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9278-AEFE-439B-BC0C-AF1E5DC7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DF9A-9EE1-4F6C-A498-54181DC39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F9E5-7724-465A-8381-F4BD7FA0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C458-9867-49B0-80F7-E58CA47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7E1-23DF-4789-8908-417F36B0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7CF4D-EC3E-476F-B8AA-6AAC5CA4EEEC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C:\Users\Valued Customer\AppData\Local\Microsoft\Windows\Temporary Internet Files\Content.IE5\PM4R9IVN\MPj04388110000[1].jpg"/>
          <p:cNvPicPr/>
          <p:nvPr/>
        </p:nvPicPr>
        <p:blipFill>
          <a:blip r:embed="rId1"/>
          <a:stretch/>
        </p:blipFill>
        <p:spPr>
          <a:xfrm>
            <a:off x="-1143000" y="0"/>
            <a:ext cx="10287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Box 2"/>
          <p:cNvSpPr/>
          <p:nvPr/>
        </p:nvSpPr>
        <p:spPr>
          <a:xfrm>
            <a:off x="0" y="152280"/>
            <a:ext cx="89154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What will our students need to know and be able to do to thrive in the futur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9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val 3"/>
          <p:cNvSpPr/>
          <p:nvPr/>
        </p:nvSpPr>
        <p:spPr>
          <a:xfrm>
            <a:off x="3352680" y="4267080"/>
            <a:ext cx="2667240" cy="91440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TextBox 4"/>
          <p:cNvGrpSpPr/>
          <p:nvPr/>
        </p:nvGrpSpPr>
        <p:grpSpPr>
          <a:xfrm>
            <a:off x="-201600" y="5894280"/>
            <a:ext cx="9401040" cy="731880"/>
            <a:chOff x="-201600" y="5894280"/>
            <a:chExt cx="9401040" cy="731880"/>
          </a:xfrm>
        </p:grpSpPr>
        <p:pic>
          <p:nvPicPr>
            <p:cNvPr id="82" name="TextBox 4" descr=""/>
            <p:cNvPicPr/>
            <p:nvPr/>
          </p:nvPicPr>
          <p:blipFill>
            <a:blip r:embed="rId2"/>
            <a:stretch/>
          </p:blipFill>
          <p:spPr>
            <a:xfrm>
              <a:off x="-201600" y="5894280"/>
              <a:ext cx="940104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0" y="5999040"/>
              <a:ext cx="91440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haroni"/>
                  <a:ea typeface="Aharoni"/>
                </a:rPr>
                <a:t>Opportunity! Opportunity! Opportunity!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3" descr=""/>
          <p:cNvPicPr/>
          <p:nvPr/>
        </p:nvPicPr>
        <p:blipFill>
          <a:blip r:embed="rId1"/>
          <a:srcRect l="59054" t="64466" r="13339" b="0"/>
          <a:stretch/>
        </p:blipFill>
        <p:spPr>
          <a:xfrm>
            <a:off x="5029200" y="3657600"/>
            <a:ext cx="2209680" cy="22273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2"/>
          <a:srcRect l="35246" t="34053" r="15238" b="34334"/>
          <a:stretch/>
        </p:blipFill>
        <p:spPr>
          <a:xfrm>
            <a:off x="3124080" y="1752480"/>
            <a:ext cx="396252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304920" y="-380880"/>
            <a:ext cx="8001000" cy="62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rcRect l="38126" t="20003" r="25001" b="6000"/>
          <a:stretch/>
        </p:blipFill>
        <p:spPr>
          <a:xfrm>
            <a:off x="1828800" y="0"/>
            <a:ext cx="5423040" cy="68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0" y="3687840"/>
            <a:ext cx="914400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0" spc="-1" strike="noStrike">
                <a:solidFill>
                  <a:srgbClr val="000000"/>
                </a:solidFill>
                <a:latin typeface="Aharoni"/>
                <a:ea typeface="Aharoni"/>
              </a:rPr>
              <a:t>Information Power 2</a:t>
            </a:r>
            <a:endParaRPr b="0" lang="en-US" sz="1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1"/>
          <p:cNvSpPr/>
          <p:nvPr/>
        </p:nvSpPr>
        <p:spPr>
          <a:xfrm>
            <a:off x="0" y="609480"/>
            <a:ext cx="9144000" cy="31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0" spc="-1" strike="noStrike">
                <a:solidFill>
                  <a:srgbClr val="77933c"/>
                </a:solidFill>
                <a:latin typeface="Aharoni"/>
                <a:ea typeface="Aharoni"/>
              </a:rPr>
              <a:t>1998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Google"/>
          <p:cNvPicPr/>
          <p:nvPr/>
        </p:nvPicPr>
        <p:blipFill>
          <a:blip r:embed="rId1"/>
          <a:stretch/>
        </p:blipFill>
        <p:spPr>
          <a:xfrm>
            <a:off x="990720" y="3828960"/>
            <a:ext cx="683568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Aharoni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7" descr="C:\Users\Valued Customer\AppData\Local\Microsoft\Windows\Temporary Internet Files\Content.IE5\33L5Q479\MPj04064860000[1].jpg"/>
          <p:cNvPicPr/>
          <p:nvPr/>
        </p:nvPicPr>
        <p:blipFill>
          <a:blip r:embed="rId2"/>
          <a:stretch/>
        </p:blipFill>
        <p:spPr>
          <a:xfrm>
            <a:off x="-304920" y="2209680"/>
            <a:ext cx="1029204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152280" y="228600"/>
            <a:ext cx="8991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 a nutshell:  Going beyond </a:t>
            </a:r>
            <a:r>
              <a:rPr b="1" lang="en-US" sz="2400" spc="-1" strike="noStrike">
                <a:solidFill>
                  <a:srgbClr val="92d050"/>
                </a:solidFill>
                <a:latin typeface="Gill Sans MT"/>
                <a:ea typeface="Aharoni"/>
              </a:rPr>
              <a:t>FINDING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formatio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Synthes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Making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2400" spc="-1" strike="noStrike">
                <a:solidFill>
                  <a:srgbClr val="e46c0a"/>
                </a:solidFill>
                <a:latin typeface="Gill Sans MT"/>
                <a:ea typeface="Aharoni"/>
              </a:rPr>
              <a:t>Creating Something N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Callout 6"/>
          <p:cNvSpPr/>
          <p:nvPr/>
        </p:nvSpPr>
        <p:spPr>
          <a:xfrm>
            <a:off x="7315200" y="2438280"/>
            <a:ext cx="1676520" cy="3733920"/>
          </a:xfrm>
          <a:prstGeom prst="wedgeEllipseCallout">
            <a:avLst>
              <a:gd name="adj1" fmla="val -64106"/>
              <a:gd name="adj2" fmla="val 4424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543800" y="3100320"/>
            <a:ext cx="12952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Gill Sans MT"/>
                <a:ea typeface="Aharoni"/>
              </a:rPr>
              <a:t>You can go home now.  Thanks for com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2"/>
          <p:cNvSpPr/>
          <p:nvPr/>
        </p:nvSpPr>
        <p:spPr>
          <a:xfrm>
            <a:off x="1523880" y="0"/>
            <a:ext cx="7162920" cy="72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It’s About Student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Remember what Ross Todd said he found in his research?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Teachers want to collaborate so students learn more.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  <a:ea typeface="Aharoni"/>
              </a:rPr>
              <a:t>Librarians want to collaborate to show how great libraries and librarians are.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  <a:ea typeface="Aharoni"/>
              </a:rPr>
              <a:t>Gulp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2"/>
          <p:cNvSpPr/>
          <p:nvPr/>
        </p:nvSpPr>
        <p:spPr>
          <a:xfrm>
            <a:off x="1523880" y="762120"/>
            <a:ext cx="7162920" cy="46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free 8-page downloa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s in Action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available for purchase at ala.o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Gill Sans MT"/>
                <a:ea typeface="Aharoni"/>
              </a:rPr>
              <a:t>Program Guidelines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(coming so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Image, Source: digital file from original"/>
          <p:cNvPicPr/>
          <p:nvPr/>
        </p:nvPicPr>
        <p:blipFill>
          <a:blip r:embed="rId1"/>
          <a:srcRect l="13752" t="14160" r="17499" b="11501"/>
          <a:stretch/>
        </p:blipFill>
        <p:spPr>
          <a:xfrm>
            <a:off x="0" y="-12528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2"/>
          <p:cNvSpPr/>
          <p:nvPr/>
        </p:nvSpPr>
        <p:spPr>
          <a:xfrm>
            <a:off x="228600" y="571500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future won’t look like thi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4952880" y="6581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ponent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8"/>
          <p:cNvSpPr/>
          <p:nvPr/>
        </p:nvSpPr>
        <p:spPr>
          <a:xfrm>
            <a:off x="2438280" y="380880"/>
            <a:ext cx="5562720" cy="16765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</a:rPr>
              <a:t>8-Page Document: 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Standards for the 21</a:t>
            </a:r>
            <a:r>
              <a:rPr b="1" i="1" lang="en-US" sz="3600" spc="-1" strike="noStrike" baseline="30000">
                <a:solidFill>
                  <a:srgbClr val="ffffff"/>
                </a:solidFill>
                <a:latin typeface="Gill Sans MT"/>
              </a:rPr>
              <a:t>st</a:t>
            </a:r>
            <a:r>
              <a:rPr b="1" i="1" lang="en-US" sz="3600" spc="-1" strike="noStrike">
                <a:solidFill>
                  <a:srgbClr val="ffffff"/>
                </a:solidFill>
                <a:latin typeface="Gill Sans MT"/>
              </a:rPr>
              <a:t>-Century Learn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9"/>
          <p:cNvSpPr/>
          <p:nvPr/>
        </p:nvSpPr>
        <p:spPr>
          <a:xfrm>
            <a:off x="2438280" y="2362320"/>
            <a:ext cx="22860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9 Commo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5410080" y="2362320"/>
            <a:ext cx="2514600" cy="1143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4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3276720" y="4419720"/>
            <a:ext cx="167616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Dis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2"/>
          <p:cNvSpPr/>
          <p:nvPr/>
        </p:nvSpPr>
        <p:spPr>
          <a:xfrm>
            <a:off x="525780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Gill Sans MT"/>
              </a:rPr>
              <a:t>Student Responsibil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72388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tudent Self-Assessment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4"/>
          <p:cNvSpPr/>
          <p:nvPr/>
        </p:nvSpPr>
        <p:spPr>
          <a:xfrm>
            <a:off x="1295280" y="4419720"/>
            <a:ext cx="1676520" cy="1295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ill Sans MT"/>
              </a:rPr>
              <a:t>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16"/>
          <p:cNvCxnSpPr>
            <a:stCxn id="120" idx="2"/>
            <a:endCxn id="123" idx="0"/>
          </p:cNvCxnSpPr>
          <p:nvPr/>
        </p:nvCxnSpPr>
        <p:spPr>
          <a:xfrm flipH="1" rot="16200000">
            <a:off x="6915240" y="3257280"/>
            <a:ext cx="915120" cy="14104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6" name="Elbow Connector 18"/>
          <p:cNvCxnSpPr>
            <a:stCxn id="120" idx="2"/>
            <a:endCxn id="124" idx="0"/>
          </p:cNvCxnSpPr>
          <p:nvPr/>
        </p:nvCxnSpPr>
        <p:spPr>
          <a:xfrm rot="5400000">
            <a:off x="3942720" y="1695600"/>
            <a:ext cx="915120" cy="453456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7" name="Elbow Connector 20"/>
          <p:cNvCxnSpPr>
            <a:stCxn id="120" idx="2"/>
            <a:endCxn id="121" idx="0"/>
          </p:cNvCxnSpPr>
          <p:nvPr/>
        </p:nvCxnSpPr>
        <p:spPr>
          <a:xfrm rot="5400000">
            <a:off x="4933080" y="2686320"/>
            <a:ext cx="915120" cy="255312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8" name="Elbow Connector 22"/>
          <p:cNvCxnSpPr>
            <a:stCxn id="120" idx="2"/>
            <a:endCxn id="122" idx="0"/>
          </p:cNvCxnSpPr>
          <p:nvPr/>
        </p:nvCxnSpPr>
        <p:spPr>
          <a:xfrm rot="5400000">
            <a:off x="5923800" y="3676680"/>
            <a:ext cx="915120" cy="57240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Elbow Connector 34"/>
          <p:cNvCxnSpPr>
            <a:stCxn id="118" idx="2"/>
            <a:endCxn id="119" idx="0"/>
          </p:cNvCxnSpPr>
          <p:nvPr/>
        </p:nvCxnSpPr>
        <p:spPr>
          <a:xfrm rot="5400000">
            <a:off x="4247280" y="1390320"/>
            <a:ext cx="305640" cy="16390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hape 36"/>
          <p:cNvCxnSpPr>
            <a:stCxn id="118" idx="2"/>
            <a:endCxn id="120" idx="0"/>
          </p:cNvCxnSpPr>
          <p:nvPr/>
        </p:nvCxnSpPr>
        <p:spPr>
          <a:xfrm flipH="1" rot="16200000">
            <a:off x="5790960" y="1485360"/>
            <a:ext cx="305640" cy="1448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3" descr="C:\Users\Valued Customer\AppData\Local\Microsoft\Windows\Temporary Internet Files\Content.IE5\CII5TUUQ\MPj02160210000[1].jpg"/>
          <p:cNvPicPr/>
          <p:nvPr/>
        </p:nvPicPr>
        <p:blipFill>
          <a:blip r:embed="rId1"/>
          <a:stretch/>
        </p:blipFill>
        <p:spPr>
          <a:xfrm>
            <a:off x="228600" y="-61920"/>
            <a:ext cx="8915400" cy="604836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2"/>
          <p:cNvSpPr/>
          <p:nvPr/>
        </p:nvSpPr>
        <p:spPr>
          <a:xfrm>
            <a:off x="1143000" y="26668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Laying a strong foundatio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Giving us language to reach out and connect to colleague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Gill Sans MT"/>
                <a:ea typeface="Aharoni"/>
              </a:rPr>
              <a:t>Starts the conversation on common 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2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Reading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is a window to the world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Inquiry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provides a framework for learning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thical behavior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n the use of information must be taught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Technology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crucial for future employment need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2"/>
          <p:cNvSpPr/>
          <p:nvPr/>
        </p:nvSpPr>
        <p:spPr>
          <a:xfrm>
            <a:off x="1371600" y="228600"/>
            <a:ext cx="7315200" cy="40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5. 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Equitable acces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is a key component for educatio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6.  The definition of information literacy has become more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complex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as resources and technologies have change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"/>
          <p:cNvSpPr/>
          <p:nvPr/>
        </p:nvSpPr>
        <p:spPr>
          <a:xfrm>
            <a:off x="1371600" y="228600"/>
            <a:ext cx="7772400" cy="54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7.  The continuing expansion of information demands that all individuals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acquire the thinking skill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that will enable them to learn on their own.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Learning has a </a:t>
            </a: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ocial context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.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e46c0a"/>
              </a:buClr>
              <a:buFont typeface="Gill Sans MT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e46c0a"/>
                </a:solidFill>
                <a:latin typeface="Gill Sans MT"/>
              </a:rPr>
              <a:t>School libraries </a:t>
            </a:r>
            <a:r>
              <a:rPr b="1" lang="en-US" sz="3000" spc="-1" strike="noStrike">
                <a:solidFill>
                  <a:srgbClr val="000000"/>
                </a:solidFill>
                <a:latin typeface="Gill Sans MT"/>
              </a:rPr>
              <a:t>are essential to the development of learning skill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5"/>
          <p:cNvSpPr/>
          <p:nvPr/>
        </p:nvSpPr>
        <p:spPr>
          <a:xfrm rot="16200000">
            <a:off x="-2618640" y="2650320"/>
            <a:ext cx="6858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Gill Sans MT"/>
                <a:ea typeface="Aharoni"/>
              </a:rPr>
              <a:t>Common Beliefs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"/>
          <p:cNvSpPr/>
          <p:nvPr/>
        </p:nvSpPr>
        <p:spPr>
          <a:xfrm>
            <a:off x="1523880" y="0"/>
            <a:ext cx="7162920" cy="75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Learners use skills, resources, and tools to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inquire,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think critically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, and gain knowledge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draw conclusions, make informed decisions, apply knowledge to new situations,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create new knowledge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share knowledge and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articipate ethically and productively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as members of our democratic society;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pursue </a:t>
            </a:r>
            <a:r>
              <a:rPr b="1" lang="en-US" sz="2400" spc="-1" strike="noStrike">
                <a:solidFill>
                  <a:srgbClr val="0070c0"/>
                </a:solidFill>
                <a:latin typeface="Gill Sans MT"/>
                <a:ea typeface="Aharoni"/>
              </a:rPr>
              <a:t>personal and aesthetic growth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haron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The Four Standar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 rot="16200000">
            <a:off x="-2894400" y="28944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ill Sans MT"/>
                <a:ea typeface="Aharoni"/>
              </a:rPr>
              <a:t>More Than Ski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8"/>
          <p:cNvSpPr/>
          <p:nvPr/>
        </p:nvSpPr>
        <p:spPr>
          <a:xfrm>
            <a:off x="1523880" y="304920"/>
            <a:ext cx="655344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ubsections for e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andar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kill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disposition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elf-assessment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student responsib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6" descr="C:\Users\Valued Customer\AppData\Local\Microsoft\Windows\Temporary Internet Files\Content.IE5\PM4R9IVN\MPj04395640000[1].jpg"/>
          <p:cNvPicPr/>
          <p:nvPr/>
        </p:nvPicPr>
        <p:blipFill>
          <a:blip r:embed="rId2"/>
          <a:stretch/>
        </p:blipFill>
        <p:spPr>
          <a:xfrm>
            <a:off x="5437080" y="1219320"/>
            <a:ext cx="370692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8" descr="http://a123.g.akamai.net/f/123/12465/1d/www.canada.com/shop/shopper/images/hotornot_top_1.gif"/>
          <p:cNvPicPr/>
          <p:nvPr/>
        </p:nvPicPr>
        <p:blipFill>
          <a:blip r:embed="rId1"/>
          <a:stretch/>
        </p:blipFill>
        <p:spPr>
          <a:xfrm>
            <a:off x="2438280" y="0"/>
            <a:ext cx="4114800" cy="2600280"/>
          </a:xfrm>
          <a:prstGeom prst="rect">
            <a:avLst/>
          </a:prstGeom>
          <a:ln w="0">
            <a:noFill/>
          </a:ln>
        </p:spPr>
      </p:pic>
      <p:sp>
        <p:nvSpPr>
          <p:cNvPr id="166" name="TextBox 5"/>
          <p:cNvSpPr/>
          <p:nvPr/>
        </p:nvSpPr>
        <p:spPr>
          <a:xfrm rot="5400000">
            <a:off x="-2034000" y="203328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haroni"/>
                <a:ea typeface="Aharoni"/>
              </a:rPr>
              <a:t>Image: canada.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traight Connector 7"/>
          <p:cNvSpPr/>
          <p:nvPr/>
        </p:nvSpPr>
        <p:spPr>
          <a:xfrm flipH="1">
            <a:off x="4570560" y="3049560"/>
            <a:ext cx="2880" cy="35812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8"/>
          <p:cNvSpPr/>
          <p:nvPr/>
        </p:nvSpPr>
        <p:spPr>
          <a:xfrm>
            <a:off x="457200" y="2286000"/>
            <a:ext cx="380988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nqui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houghtfulness,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roblem-solving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Us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evaluat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information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instructional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partner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hroughout proces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Social, collaborative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teaching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and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learning</a:t>
            </a:r>
            <a:br>
              <a:rPr sz="1800"/>
            </a:br>
            <a:r>
              <a:rPr b="0" lang="en-US" sz="1800" spc="-1" strike="noStrike">
                <a:solidFill>
                  <a:srgbClr val="c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uthentic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work tasks, products, and aud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105520" y="2286000"/>
            <a:ext cx="3886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“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Dump and go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”: finding answers to specific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close-end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teacher-generated question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Finding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information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Librarian as an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accessory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 to learning (“a clerk could do it”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c00000"/>
              </a:buClr>
              <a:buFont typeface="Aharon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Isolated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, individual learning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- Contrived tasks </a:t>
            </a:r>
            <a:r>
              <a:rPr b="0" lang="en-US" sz="1800" spc="-1" strike="noStrike">
                <a:solidFill>
                  <a:srgbClr val="c00000"/>
                </a:solidFill>
                <a:latin typeface="Aharoni"/>
                <a:ea typeface="Aharoni"/>
              </a:rPr>
              <a:t>without resonance </a:t>
            </a:r>
            <a:r>
              <a:rPr b="0" lang="en-US" sz="1800" spc="-1" strike="noStrike">
                <a:solidFill>
                  <a:srgbClr val="000000"/>
                </a:solidFill>
                <a:latin typeface="Aharoni"/>
                <a:ea typeface="Aharoni"/>
              </a:rPr>
              <a:t>to 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" descr=""/>
          <p:cNvPicPr/>
          <p:nvPr/>
        </p:nvPicPr>
        <p:blipFill>
          <a:blip r:embed="rId2"/>
          <a:stretch/>
        </p:blipFill>
        <p:spPr>
          <a:xfrm>
            <a:off x="4267080" y="1273320"/>
            <a:ext cx="430200" cy="5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C:\Users\Valued Customer\AppData\Local\Microsoft\Windows\Temporary Internet Files\Content.IE5\33L5Q479\MPj03993720000[1].jpg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sp>
        <p:nvSpPr>
          <p:cNvPr id="177" name="TextBox 4"/>
          <p:cNvSpPr/>
          <p:nvPr/>
        </p:nvSpPr>
        <p:spPr>
          <a:xfrm>
            <a:off x="304920" y="0"/>
            <a:ext cx="8610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Feeling snowed in with this new information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We’ll sort this out tomorrow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4876920" y="6324480"/>
            <a:ext cx="716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Henry Ford at the White Ho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ill Sans MT"/>
                <a:ea typeface="Aharoni"/>
              </a:rPr>
              <a:t>Source: http://memory.loc.gov/ammem/today/jul30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4495680" y="990720"/>
            <a:ext cx="43434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  <a:ea typeface="Aharoni"/>
              </a:rPr>
              <a:t>The office and executive jobs he envisioned may no longer exist … or be in Michigan … or be plentiful enough for all of Michigan’s childre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2" descr="http://memory.loc.gov/service/pnp/cph/3c10000/3c11000/3c11300/3c11360v.jpg"/>
          <p:cNvPicPr/>
          <p:nvPr/>
        </p:nvPicPr>
        <p:blipFill>
          <a:blip r:embed="rId1"/>
          <a:srcRect l="19732" t="13280" r="18128" b="9375"/>
          <a:stretch/>
        </p:blipFill>
        <p:spPr>
          <a:xfrm>
            <a:off x="0" y="0"/>
            <a:ext cx="436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C:\Users\Valued Customer\AppData\Local\Microsoft\Windows\Temporary Internet Files\Content.IE5\RAYH10OK\MPj02899120000[1].jpg"/>
          <p:cNvPicPr/>
          <p:nvPr/>
        </p:nvPicPr>
        <p:blipFill>
          <a:blip r:embed="rId1"/>
          <a:stretch/>
        </p:blipFill>
        <p:spPr>
          <a:xfrm>
            <a:off x="4572000" y="-17640"/>
            <a:ext cx="4572000" cy="68756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52280" y="152280"/>
            <a:ext cx="434340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can’t predict our students’ future anymo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But we can help them prepare for a life of chang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We school librarians want to be part of students’ learning journey. </a:t>
            </a:r>
            <a:r>
              <a:rPr b="1" i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(Do others know that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4952880" y="0"/>
            <a:ext cx="4191120" cy="2682720"/>
          </a:xfrm>
          <a:prstGeom prst="rect">
            <a:avLst/>
          </a:prstGeom>
          <a:ln w="0">
            <a:noFill/>
          </a:ln>
        </p:spPr>
      </p:pic>
      <p:sp>
        <p:nvSpPr>
          <p:cNvPr id="59" name="TextBox 4"/>
          <p:cNvSpPr/>
          <p:nvPr/>
        </p:nvSpPr>
        <p:spPr>
          <a:xfrm>
            <a:off x="5105520" y="2743200"/>
            <a:ext cx="716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 Century Ski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www.21stcenturyskills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-1523880" y="4495680"/>
            <a:ext cx="1295388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2"/>
          <a:stretch/>
        </p:blipFill>
        <p:spPr>
          <a:xfrm>
            <a:off x="990720" y="3276720"/>
            <a:ext cx="2065320" cy="2666880"/>
          </a:xfrm>
          <a:prstGeom prst="rect">
            <a:avLst/>
          </a:prstGeom>
          <a:ln w="0">
            <a:noFill/>
          </a:ln>
        </p:spPr>
      </p:pic>
      <p:sp>
        <p:nvSpPr>
          <p:cNvPr id="62" name="TextBox 7"/>
          <p:cNvSpPr/>
          <p:nvPr/>
        </p:nvSpPr>
        <p:spPr>
          <a:xfrm>
            <a:off x="685800" y="6019920"/>
            <a:ext cx="716292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ASL Standards for the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  <a:ea typeface="Aharoni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-Century Lea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www.ala.org/aas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3"/>
          <a:stretch/>
        </p:blipFill>
        <p:spPr>
          <a:xfrm>
            <a:off x="0" y="0"/>
            <a:ext cx="3600360" cy="2819520"/>
          </a:xfrm>
          <a:prstGeom prst="rect">
            <a:avLst/>
          </a:prstGeom>
          <a:ln w="0">
            <a:noFill/>
          </a:ln>
        </p:spPr>
      </p:pic>
      <p:sp>
        <p:nvSpPr>
          <p:cNvPr id="64" name="TextBox 9"/>
          <p:cNvSpPr/>
          <p:nvPr/>
        </p:nvSpPr>
        <p:spPr>
          <a:xfrm>
            <a:off x="380880" y="2590920"/>
            <a:ext cx="32004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ISTE - NETS*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iste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4"/>
          <a:srcRect l="0" t="0" r="0" b="73339"/>
          <a:stretch/>
        </p:blipFill>
        <p:spPr>
          <a:xfrm>
            <a:off x="5638680" y="3886200"/>
            <a:ext cx="2857680" cy="1523880"/>
          </a:xfrm>
          <a:prstGeom prst="rect">
            <a:avLst/>
          </a:prstGeom>
          <a:ln w="0">
            <a:noFill/>
          </a:ln>
        </p:spPr>
      </p:pic>
      <p:sp>
        <p:nvSpPr>
          <p:cNvPr id="66" name="TextBox 7"/>
          <p:cNvSpPr/>
          <p:nvPr/>
        </p:nvSpPr>
        <p:spPr>
          <a:xfrm>
            <a:off x="5562720" y="5257800"/>
            <a:ext cx="71625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  <a:ea typeface="Aharoni"/>
              </a:rPr>
              <a:t>ASCD Whole Ch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  <a:ea typeface="Aharoni"/>
              </a:rPr>
              <a:t>Ascd.org or wholechildeducation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-360" y="30456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Healthy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kids &amp; lifesty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Intellectu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hallenging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Physically &amp; emotionally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saf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ctive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engage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Connect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to school &amp; commun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ersonaliz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lear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Qualified, caring </a:t>
            </a: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ad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Gill Sans MT"/>
                <a:ea typeface="Aharoni"/>
              </a:rPr>
              <a:t>Prepared</a:t>
            </a:r>
            <a:r>
              <a:rPr b="1" lang="en-US" sz="3200" spc="-1" strike="noStrike">
                <a:solidFill>
                  <a:srgbClr val="000000"/>
                </a:solidFill>
                <a:latin typeface="Gill Sans MT"/>
                <a:ea typeface="Aharoni"/>
              </a:rPr>
              <a:t> for college/further study &amp; global environme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C:\Users\Valued Customer\AppData\Local\Microsoft\Windows\Temporary Internet Files\Content.IE5\1QJSI587\MPj04306150000[1].jpg"/>
          <p:cNvPicPr/>
          <p:nvPr/>
        </p:nvPicPr>
        <p:blipFill>
          <a:blip r:embed="rId1"/>
          <a:srcRect l="67902" t="0" r="0" b="31251"/>
          <a:stretch/>
        </p:blipFill>
        <p:spPr>
          <a:xfrm>
            <a:off x="5943600" y="3240"/>
            <a:ext cx="3200400" cy="68547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"/>
          <p:cNvPicPr/>
          <p:nvPr/>
        </p:nvPicPr>
        <p:blipFill>
          <a:blip r:embed="rId2"/>
          <a:srcRect l="0" t="0" r="0" b="74252"/>
          <a:stretch/>
        </p:blipFill>
        <p:spPr>
          <a:xfrm>
            <a:off x="5943600" y="-1676520"/>
            <a:ext cx="2133720" cy="10987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-360" y="1294920"/>
            <a:ext cx="61722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000000"/>
                </a:solidFill>
                <a:latin typeface="Gill Sans MT"/>
                <a:ea typeface="Aharoni"/>
              </a:rPr>
              <a:t>A group effort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Community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School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11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9" descr=""/>
          <p:cNvPicPr/>
          <p:nvPr/>
        </p:nvPicPr>
        <p:blipFill>
          <a:blip r:embed="rId3"/>
          <a:srcRect l="0" t="0" r="0" b="73339"/>
          <a:stretch/>
        </p:blipFill>
        <p:spPr>
          <a:xfrm>
            <a:off x="7315200" y="0"/>
            <a:ext cx="1828800" cy="9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/>
          <a:stretch/>
        </p:blipFill>
        <p:spPr>
          <a:xfrm>
            <a:off x="95400" y="0"/>
            <a:ext cx="9048600" cy="5791320"/>
          </a:xfrm>
          <a:prstGeom prst="rect">
            <a:avLst/>
          </a:prstGeom>
          <a:ln w="0">
            <a:noFill/>
          </a:ln>
        </p:spPr>
      </p:pic>
      <p:sp>
        <p:nvSpPr>
          <p:cNvPr id="77" name="Oval 2"/>
          <p:cNvSpPr/>
          <p:nvPr/>
        </p:nvSpPr>
        <p:spPr>
          <a:xfrm>
            <a:off x="6324480" y="1447920"/>
            <a:ext cx="1524240" cy="1752480"/>
          </a:xfrm>
          <a:prstGeom prst="ellipse">
            <a:avLst/>
          </a:prstGeom>
          <a:noFill/>
          <a:ln w="10152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6T19:29:49Z</dcterms:created>
  <dc:creator>Kristin Fontichiaro</dc:creator>
  <dc:description/>
  <dc:language>en-US</dc:language>
  <cp:lastModifiedBy>Kristin Fontichiaro</cp:lastModifiedBy>
  <dcterms:modified xsi:type="dcterms:W3CDTF">2009-03-07T01:53:23Z</dcterms:modified>
  <cp:revision>204</cp:revision>
  <dc:subject/>
  <dc:title>Thinking Thoughtfully About Technology and Standards</dc:title>
</cp:coreProperties>
</file>