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0090-B9C7-44FA-8F00-E1850D278B6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07FDD-686A-4FF6-B1CE-1472766D56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7645D-DA65-460D-AFEA-19CDF8BA95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191FB-1910-42A0-8745-D4279D916DE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A8FC-839E-481E-9F98-2BF052AD04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D3CD1-C936-4BD3-AC72-65424F4919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2C57-9476-48F8-A417-8EF9282A8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B2E6-20C9-42A4-8D12-AA87F434C5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F1C6B-8A79-4F49-AF03-0F6AC50B88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3FF5-0921-433D-8BFE-9C4BE6EEA8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E34-2F30-4D31-B4BA-C7CFCBA912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8FDB7-E1C3-46D2-BCF6-DCFA6378A0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349FF-6602-4C89-BBB6-2F31511A9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F538-A4BC-4E7B-9803-EDAF5D4E7F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F19D-B514-425B-954B-A3AFDBCADF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A06B2-608C-4FE7-9D11-59BF9A9BD4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0693-B87B-433F-A696-2354AE0DFAA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6425-5AB5-4D18-A03E-D7A744A61E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7016-04A0-4506-AF4A-B77D2C1F6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2886-F66A-4158-9643-7A22A53AA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2433-CF5E-4728-825B-9C31EEE3B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AD16-11E5-4B19-968B-9CB9F3B30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1B72-9630-47E4-AFE6-64F2E10FC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3465-E0AE-434A-83C2-25821F382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1800-EE84-45FD-8C30-E710858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F05FF-54C1-48C3-8CC1-59D4F3FFD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E375-5D50-408F-A2D2-B30E09DB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2DD7-BC7F-41DB-9DE1-AF811EBF6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E8DC-121B-42F9-B3C7-054B6054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0B14-539D-478C-9FA4-25322429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70B93-7C16-4F0B-BE8C-6002D0BCD5C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RAYH10OK\MPj03856430000[1].jpg"/>
          <p:cNvPicPr/>
          <p:nvPr/>
        </p:nvPicPr>
        <p:blipFill>
          <a:blip r:embed="rId1"/>
          <a:stretch/>
        </p:blipFill>
        <p:spPr>
          <a:xfrm>
            <a:off x="-380880" y="0"/>
            <a:ext cx="96012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1219320" y="2021040"/>
            <a:ext cx="579096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000000"/>
                </a:solidFill>
                <a:latin typeface="Brush Script MT"/>
                <a:ea typeface="Microsoft JhengHei"/>
              </a:rPr>
              <a:t>To the post-NCLB World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qui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think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itical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gain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raw conclu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make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informed decisions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pply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create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new knowledg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hare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knowledge and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articipat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ethical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roductively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as members of our democratic society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personal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nd </a:t>
            </a:r>
            <a:r>
              <a:rPr b="1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aesthetic </a:t>
            </a:r>
            <a:r>
              <a:rPr b="0" lang="en-US" sz="2400" spc="-1" strike="noStrike">
                <a:solidFill>
                  <a:srgbClr val="0070c0"/>
                </a:solidFill>
                <a:latin typeface="Aharoni"/>
                <a:ea typeface="Aharoni"/>
              </a:rPr>
              <a:t>growth</a:t>
            </a: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The  Four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85" name="TextBox 2"/>
          <p:cNvSpPr/>
          <p:nvPr/>
        </p:nvSpPr>
        <p:spPr>
          <a:xfrm>
            <a:off x="0" y="0"/>
            <a:ext cx="9144000" cy="661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More Than Skills 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ubsections for ea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andar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kill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disposition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elf-assessm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haroni"/>
                <a:ea typeface="Aharoni"/>
              </a:rPr>
              <a:t>student responsi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4191120" y="1600200"/>
            <a:ext cx="4952880" cy="33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90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"/>
          <p:cNvPicPr/>
          <p:nvPr/>
        </p:nvPicPr>
        <p:blipFill>
          <a:blip r:embed="rId1"/>
          <a:srcRect l="9375" t="15000" r="19376" b="17003"/>
          <a:stretch/>
        </p:blipFill>
        <p:spPr>
          <a:xfrm>
            <a:off x="-54000" y="1447920"/>
            <a:ext cx="9198000" cy="548640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0" y="31284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How do we get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there</a:t>
            </a:r>
            <a:r>
              <a:rPr b="0" lang="en-US" sz="4400" spc="-1" strike="noStrike">
                <a:solidFill>
                  <a:srgbClr val="000000"/>
                </a:solidFill>
                <a:latin typeface="Aharoni"/>
                <a:ea typeface="Aharoni"/>
              </a:rPr>
              <a:t> from </a:t>
            </a:r>
            <a:r>
              <a:rPr b="0" lang="en-US" sz="4400" spc="-1" strike="noStrike">
                <a:solidFill>
                  <a:srgbClr val="c00000"/>
                </a:solidFill>
                <a:latin typeface="Aharoni"/>
                <a:ea typeface="Aharoni"/>
              </a:rPr>
              <a:t>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C:\Users\font\AppData\Local\Microsoft\Windows\Temporary Internet Files\Content.IE5\B9GJ1140\MPj04277510000[1].jpg"/>
          <p:cNvPicPr/>
          <p:nvPr/>
        </p:nvPicPr>
        <p:blipFill>
          <a:blip r:embed="rId1"/>
          <a:stretch/>
        </p:blipFill>
        <p:spPr>
          <a:xfrm>
            <a:off x="0" y="0"/>
            <a:ext cx="46674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2"/>
          <p:cNvSpPr/>
          <p:nvPr/>
        </p:nvSpPr>
        <p:spPr>
          <a:xfrm>
            <a:off x="4876920" y="1158840"/>
            <a:ext cx="396216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haroni"/>
                <a:ea typeface="Aharoni"/>
              </a:rPr>
              <a:t>You know what they say about eating an elephant.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52280" y="304560"/>
            <a:ext cx="38102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Stretch our definitions of learn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Acqui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Mea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Transf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Wiggins &amp; McTigh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haroni"/>
                <a:ea typeface="Aharoni"/>
              </a:rPr>
              <a:t>20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6629400" y="3720960"/>
            <a:ext cx="2181240" cy="28800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C:\Users\Valued Customer\AppData\Local\Microsoft\Windows\Temporary Internet Files\Content.IE5\1QJSI587\MPj04305290000[1].jpg"/>
          <p:cNvPicPr/>
          <p:nvPr/>
        </p:nvPicPr>
        <p:blipFill>
          <a:blip r:embed="rId2"/>
          <a:stretch/>
        </p:blipFill>
        <p:spPr>
          <a:xfrm>
            <a:off x="4040280" y="0"/>
            <a:ext cx="510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-360" y="-360"/>
            <a:ext cx="3809880" cy="716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will kids learn from this that they can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ransfer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into new work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thinking skills 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does this lesson involve?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is the </a:t>
            </a:r>
            <a:r>
              <a:rPr b="0" lang="en-US" sz="3200" spc="-1" strike="noStrike">
                <a:solidFill>
                  <a:srgbClr val="00b050"/>
                </a:solidFill>
                <a:latin typeface="Aharoni"/>
                <a:ea typeface="Aharoni"/>
              </a:rPr>
              <a:t>student learn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 (Content or procedure?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1" descr="C:\Users\Valued Customer\AppData\Local\Microsoft\Windows\Temporary Internet Files\Content.IE5\PM4R9IVN\MPj04317910000[1].jpg"/>
          <p:cNvPicPr/>
          <p:nvPr/>
        </p:nvPicPr>
        <p:blipFill>
          <a:blip r:embed="rId1"/>
          <a:srcRect l="21111" t="0" r="0" b="0"/>
          <a:stretch/>
        </p:blipFill>
        <p:spPr>
          <a:xfrm>
            <a:off x="3733920" y="0"/>
            <a:ext cx="5410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04560" y="3504960"/>
            <a:ext cx="9219960" cy="70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How can/should technolog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elp with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differentiation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support </a:t>
            </a: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authentic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tasks and audienc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e46c0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46c0a"/>
                </a:solidFill>
                <a:latin typeface="Aharoni"/>
                <a:ea typeface="Aharoni"/>
              </a:rPr>
              <a:t>connec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kids to other kids? To exper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What old tech practices should we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jettison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C:\Users\Valued Customer\AppData\Local\Microsoft\Windows\Temporary Internet Files\Content.IE5\1QJSI587\MPj04308400000[1].jpg"/>
          <p:cNvPicPr/>
          <p:nvPr/>
        </p:nvPicPr>
        <p:blipFill>
          <a:blip r:embed="rId1"/>
          <a:stretch/>
        </p:blipFill>
        <p:spPr>
          <a:xfrm>
            <a:off x="2362320" y="0"/>
            <a:ext cx="45702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C:\Users\Valued Customer\AppData\Local\Microsoft\Windows\Temporary Internet Files\Content.IE5\PM4R9IVN\MPj04118110000[1].jpg"/>
          <p:cNvPicPr/>
          <p:nvPr/>
        </p:nvPicPr>
        <p:blipFill>
          <a:blip r:embed="rId1"/>
          <a:stretch/>
        </p:blipFill>
        <p:spPr>
          <a:xfrm>
            <a:off x="4572000" y="3240"/>
            <a:ext cx="4572000" cy="685476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380880" y="844560"/>
            <a:ext cx="35816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 will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motivate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 kids to do better wor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What’s </a:t>
            </a:r>
            <a:r>
              <a:rPr b="0" lang="en-US" sz="4000" spc="-1" strike="noStrike">
                <a:solidFill>
                  <a:srgbClr val="c00000"/>
                </a:solidFill>
                <a:latin typeface="Aharoni"/>
                <a:ea typeface="Aharoni"/>
              </a:rPr>
              <a:t>in it </a:t>
            </a:r>
            <a:r>
              <a:rPr b="0" lang="en-US" sz="4000" spc="-1" strike="noStrike">
                <a:solidFill>
                  <a:srgbClr val="000000"/>
                </a:solidFill>
                <a:latin typeface="Aharoni"/>
                <a:ea typeface="Aharoni"/>
              </a:rPr>
              <a:t>for the k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0" y="152280"/>
            <a:ext cx="89154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haroni"/>
                <a:ea typeface="Aharoni"/>
              </a:rPr>
              <a:t>What will your children, grandchildren, nieces, nephews, o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8" descr="C:\Users\Valued Customer\AppData\Local\Microsoft\Windows\Temporary Internet Files\Content.IE5\1QJSI587\MPj04394410000[1].jpg"/>
          <p:cNvPicPr/>
          <p:nvPr/>
        </p:nvPicPr>
        <p:blipFill>
          <a:blip r:embed="rId1"/>
          <a:stretch/>
        </p:blipFill>
        <p:spPr>
          <a:xfrm>
            <a:off x="1219320" y="2441520"/>
            <a:ext cx="6613560" cy="44164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0" y="-360"/>
            <a:ext cx="914400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responsibility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in studen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do we help students develop </a:t>
            </a:r>
            <a:br>
              <a:rPr sz="2800"/>
            </a:b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self-assessment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 skill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How will we help students develop </a:t>
            </a:r>
            <a:r>
              <a:rPr b="0" lang="en-US" sz="2800" spc="-1" strike="noStrike">
                <a:solidFill>
                  <a:srgbClr val="ffc000"/>
                </a:solidFill>
                <a:latin typeface="Aharoni"/>
                <a:ea typeface="Aharoni"/>
              </a:rPr>
              <a:t>flexible mindsets </a:t>
            </a:r>
            <a:r>
              <a:rPr b="0" lang="en-US" sz="2800" spc="-1" strike="noStrike">
                <a:solidFill>
                  <a:srgbClr val="000000"/>
                </a:solidFill>
                <a:latin typeface="Aharoni"/>
                <a:ea typeface="Aharoni"/>
              </a:rPr>
              <a:t>for problem-solving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Content Placeholder 2"/>
          <p:cNvSpPr/>
          <p:nvPr/>
        </p:nvSpPr>
        <p:spPr>
          <a:xfrm>
            <a:off x="4191120" y="4952880"/>
            <a:ext cx="44956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Content Placeholder 2"/>
          <p:cNvSpPr/>
          <p:nvPr/>
        </p:nvSpPr>
        <p:spPr>
          <a:xfrm>
            <a:off x="-228600" y="5334120"/>
            <a:ext cx="51055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1"/>
          <p:cNvSpPr/>
          <p:nvPr/>
        </p:nvSpPr>
        <p:spPr>
          <a:xfrm>
            <a:off x="304920" y="533520"/>
            <a:ext cx="5790960" cy="59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haroni"/>
                <a:ea typeface="Aharoni"/>
              </a:rPr>
              <a:t>NEW PARADIGM: PLANNING FOR AN UNCERTAIN FU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Acquisition of information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Thinking skills+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Flexible work habits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Personal investment +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Means of sharing thinking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_____________________________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haroni"/>
                <a:ea typeface="Aharoni"/>
              </a:rPr>
              <a:t>succe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5562720" y="76320"/>
            <a:ext cx="1112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http://flickr.com/photos/chanc/351615573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C:\Users\Valued Customer\AppData\Local\Microsoft\Windows\Temporary Internet Files\Content.IE5\EP8LUSS3\MPj04014100000[1].jpg"/>
          <p:cNvPicPr/>
          <p:nvPr/>
        </p:nvPicPr>
        <p:blipFill>
          <a:blip r:embed="rId1"/>
          <a:srcRect l="0" t="0" r="43078" b="0"/>
          <a:stretch/>
        </p:blipFill>
        <p:spPr>
          <a:xfrm>
            <a:off x="6022800" y="0"/>
            <a:ext cx="312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530064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2"/>
          <p:cNvSpPr/>
          <p:nvPr/>
        </p:nvSpPr>
        <p:spPr>
          <a:xfrm>
            <a:off x="5791320" y="2590920"/>
            <a:ext cx="3733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haroni"/>
                <a:ea typeface="Aharoni"/>
              </a:rPr>
              <a:t>to be continue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5334120" y="6411960"/>
            <a:ext cx="1021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References list available upon reque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03152"/>
                </a:solidFill>
                <a:latin typeface="Calibri"/>
              </a:rPr>
              <a:t>Image: http://en.wikipedia.org/wiki/Image:Rosie_the_Riveter.jp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font\AppData\Local\Microsoft\Windows\Temporary Internet Files\Content.IE5\RZG5UXHD\MPj04012890000[1].jpg"/>
          <p:cNvPicPr/>
          <p:nvPr/>
        </p:nvPicPr>
        <p:blipFill>
          <a:blip r:embed="rId1"/>
          <a:stretch/>
        </p:blipFill>
        <p:spPr>
          <a:xfrm>
            <a:off x="-1147680" y="0"/>
            <a:ext cx="1029168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Box 1"/>
          <p:cNvSpPr/>
          <p:nvPr/>
        </p:nvSpPr>
        <p:spPr>
          <a:xfrm>
            <a:off x="457200" y="0"/>
            <a:ext cx="47242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Like the politicians say, it’s time f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chang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have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transform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how and wh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haroni"/>
                <a:ea typeface="Aharoni"/>
              </a:rPr>
              <a:t>we teac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Partnership for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58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 for the 2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haroni"/>
                <a:ea typeface="Aharon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0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5943600" y="571500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haroni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Healthy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Intellectu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hallenging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Physically &amp; emotionally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Connect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ersonaliz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Qualified, caring </a:t>
            </a: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Aharoni"/>
                <a:ea typeface="Aharoni"/>
              </a:rPr>
              <a:t>Prepared</a:t>
            </a:r>
            <a:r>
              <a:rPr b="0" lang="en-US" sz="3200" spc="-1" strike="noStrike">
                <a:solidFill>
                  <a:srgbClr val="000000"/>
                </a:solidFill>
                <a:latin typeface="Aharoni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6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cxnSp>
        <p:nvCxnSpPr>
          <p:cNvPr id="71" name="Straight Arrow Connector 3"/>
          <p:cNvCxnSpPr/>
          <p:nvPr/>
        </p:nvCxnSpPr>
        <p:spPr>
          <a:xfrm flipH="1" flipV="1">
            <a:off x="5562360" y="4876200"/>
            <a:ext cx="1372320" cy="1067400"/>
          </a:xfrm>
          <a:prstGeom prst="straightConnector1">
            <a:avLst/>
          </a:prstGeom>
          <a:ln w="88920">
            <a:solidFill>
              <a:srgbClr val="c0504d"/>
            </a:solidFill>
            <a:miter/>
            <a:tailEnd len="med" type="arrow" w="med"/>
          </a:ln>
        </p:spPr>
      </p:cxnSp>
      <p:grpSp>
        <p:nvGrpSpPr>
          <p:cNvPr id="72" name="TextBox 4"/>
          <p:cNvGrpSpPr/>
          <p:nvPr/>
        </p:nvGrpSpPr>
        <p:grpSpPr>
          <a:xfrm>
            <a:off x="-201600" y="5735520"/>
            <a:ext cx="9401040" cy="1195560"/>
            <a:chOff x="-201600" y="5735520"/>
            <a:chExt cx="9401040" cy="1195560"/>
          </a:xfrm>
        </p:grpSpPr>
        <p:pic>
          <p:nvPicPr>
            <p:cNvPr id="73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735520"/>
              <a:ext cx="9401040" cy="119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0" y="5842080"/>
              <a:ext cx="91440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Calibri"/>
                </a:rPr>
                <a:t>How will BPS address this for all teachers? How can we address this for one another?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8-11-05T02:35:08Z</dcterms:modified>
  <cp:revision>121</cp:revision>
  <dc:subject/>
  <dc:title>Thinking Thoughtfully About Technology and Standards</dc:title>
</cp:coreProperties>
</file>