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DD09-8D3F-40F3-932F-D2CFC8BEC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8F39-FE47-492A-A2B4-68B8EBB52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1413-91DE-4A4E-B02A-08292A75B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ADC6-6675-468B-AEB3-FFCB1F47B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657A-A724-4383-B56A-909D4804D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611C-E1AE-4A50-9450-5CA884D05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BBDA-7E3D-4B1E-9DE0-7E6B7DD42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7A06-44E4-448F-AAC7-E86032458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3EBE-79C8-4967-A48C-3D5653E8A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5EFE-3EB7-4A46-804B-73B1716BB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110E-2CF1-4B85-A7B4-E23F130F8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709C-7ED9-4021-A396-969D97C32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E67E-D57E-4F4A-88EC-4D9EC4F92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6B5C-D17E-473E-9F1B-7D7010392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73C6-BB79-44CA-AB08-4F659EC77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EFD5-46DF-49CF-95BB-5D7A73683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37A2-BC5F-47AB-9118-D51D8727F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0C92-20CA-4FE8-8447-4BC1D7C64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C1D-708C-4A2E-90CB-3D6C51D0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01D-C586-4858-901E-5D7917E1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173-403D-47E7-9E6F-28BD6C62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52D8-55C5-4F66-9C60-8099AE13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688-AD7E-40A8-BA76-7BE6A7D9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4B6-1599-45A0-8BC4-9EC4E133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CDF6-8AF9-4270-A381-DFC0819A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4E6-5905-46F7-B839-ACC67525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487-9663-4E8D-9682-02643DC0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EC4D-4246-467B-9389-B97DE840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5016-D10C-4E73-9015-ED08EFEE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F6F-7776-4921-98A7-5B39B43D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80DD-F08C-445F-BD5A-6E4C849D0B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Valued Customer\AppData\Local\Microsoft\Windows\Temporary Internet Files\Content.IE5\RAYH10OK\MPj03856430000[1].jpg"/>
          <p:cNvPicPr/>
          <p:nvPr/>
        </p:nvPicPr>
        <p:blipFill>
          <a:blip r:embed="rId1"/>
          <a:stretch/>
        </p:blipFill>
        <p:spPr>
          <a:xfrm>
            <a:off x="-38088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219320" y="2021040"/>
            <a:ext cx="57909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Brush Script MT"/>
                <a:ea typeface="Microsoft JhengHei"/>
              </a:rPr>
              <a:t>To the post-NCLB World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304920" y="-380880"/>
            <a:ext cx="80010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1523880" y="0"/>
            <a:ext cx="716292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earners use skills, resources, and tools 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nquir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think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critically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gain knowledg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draw conclusions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make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nformed decisions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knowledge to new situations, and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create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 new knowledg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har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knowledge and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participate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ethically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 and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productively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as members of our democratic society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pursue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personal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and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aesthetic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growth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haroni"/>
                <a:ea typeface="Aharoni"/>
              </a:rPr>
              <a:t>The  Four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0" y="0"/>
            <a:ext cx="914400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haroni"/>
                <a:ea typeface="Aharoni"/>
              </a:rPr>
              <a:t>More Than Skills 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ubsections for 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tand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kil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disposi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elf-assess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tudent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C:\Users\Valued Customer\AppData\Local\Microsoft\Windows\Temporary Internet Files\Content.IE5\PM4R9IVN\MPj04395640000[1].jpg"/>
          <p:cNvPicPr/>
          <p:nvPr/>
        </p:nvPicPr>
        <p:blipFill>
          <a:blip r:embed="rId2"/>
          <a:stretch/>
        </p:blipFill>
        <p:spPr>
          <a:xfrm>
            <a:off x="4191120" y="1600200"/>
            <a:ext cx="495288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http://a123.g.akamai.net/f/123/12465/1d/www.canada.com/shop/shopper/images/hotornot_top_1.gif"/>
          <p:cNvPicPr/>
          <p:nvPr/>
        </p:nvPicPr>
        <p:blipFill>
          <a:blip r:embed="rId1"/>
          <a:stretch/>
        </p:blipFill>
        <p:spPr>
          <a:xfrm>
            <a:off x="2438280" y="0"/>
            <a:ext cx="4114800" cy="260028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 rot="5400000">
            <a:off x="-2034000" y="20332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Image: canada.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7"/>
          <p:cNvSpPr/>
          <p:nvPr/>
        </p:nvSpPr>
        <p:spPr>
          <a:xfrm flipH="1">
            <a:off x="4570560" y="3049560"/>
            <a:ext cx="2880" cy="358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457200" y="2286000"/>
            <a:ext cx="3809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nqui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houghtfulness,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roblem-solvin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evaluat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inform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instructional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artner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hroughout pro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Social, collaborative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teach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learning</a:t>
            </a: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uthentic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ork tasks, products, and aud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5105520" y="228600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“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Dump and go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”: finding answers to specific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close-end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eacher-generated ques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Find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inform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an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ccesso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o learning (“a clerk could do it”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solat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individual lear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- Contrived tasks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without resonance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to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4267080" y="1273320"/>
            <a:ext cx="43020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9375" t="15000" r="19376" b="17003"/>
          <a:stretch/>
        </p:blipFill>
        <p:spPr>
          <a:xfrm>
            <a:off x="-54000" y="1447920"/>
            <a:ext cx="9198000" cy="54864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0" y="3128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How do we get </a:t>
            </a:r>
            <a:r>
              <a:rPr b="0" lang="en-US" sz="4400" spc="-1" strike="noStrike">
                <a:solidFill>
                  <a:srgbClr val="c00000"/>
                </a:solidFill>
                <a:latin typeface="Aharoni"/>
                <a:ea typeface="Aharoni"/>
              </a:rPr>
              <a:t>there</a:t>
            </a: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 from </a:t>
            </a:r>
            <a:r>
              <a:rPr b="0" lang="en-US" sz="4400" spc="-1" strike="noStrike">
                <a:solidFill>
                  <a:srgbClr val="c00000"/>
                </a:solidFill>
                <a:latin typeface="Aharoni"/>
                <a:ea typeface="Aharoni"/>
              </a:rPr>
              <a:t>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font\AppData\Local\Microsoft\Windows\Temporary Internet Files\Content.IE5\B9GJ1140\MPj04277510000[1].jpg"/>
          <p:cNvPicPr/>
          <p:nvPr/>
        </p:nvPicPr>
        <p:blipFill>
          <a:blip r:embed="rId1"/>
          <a:stretch/>
        </p:blipFill>
        <p:spPr>
          <a:xfrm>
            <a:off x="0" y="0"/>
            <a:ext cx="46674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4876920" y="1158840"/>
            <a:ext cx="3962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You know what they say about eating an elephant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2280" y="304560"/>
            <a:ext cx="38102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Stretch our definitions of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Acqui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Wiggins &amp; McTig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629400" y="3720960"/>
            <a:ext cx="2181240" cy="2880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Users\Valued Customer\AppData\Local\Microsoft\Windows\Temporary Internet Files\Content.IE5\1QJSI587\MPj04305290000[1].jpg"/>
          <p:cNvPicPr/>
          <p:nvPr/>
        </p:nvPicPr>
        <p:blipFill>
          <a:blip r:embed="rId2"/>
          <a:stretch/>
        </p:blipFill>
        <p:spPr>
          <a:xfrm>
            <a:off x="4040280" y="0"/>
            <a:ext cx="510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360" y="-360"/>
            <a:ext cx="380988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will kids learn from this that they can 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transfer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into new work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thinking skills 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does this lesson involv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is the 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student learning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? (Content or procedure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1" descr="C:\Users\Valued Customer\AppData\Local\Microsoft\Windows\Temporary Internet Files\Content.IE5\PM4R9IVN\MPj04317910000[1].jpg"/>
          <p:cNvPicPr/>
          <p:nvPr/>
        </p:nvPicPr>
        <p:blipFill>
          <a:blip r:embed="rId1"/>
          <a:srcRect l="21111" t="0" r="0" b="0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560" y="3504960"/>
            <a:ext cx="921996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ow can/should technolo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elp with </a:t>
            </a:r>
            <a:r>
              <a:rPr b="0" lang="en-US" sz="2800" spc="-1" strike="noStrike">
                <a:solidFill>
                  <a:srgbClr val="e46c0a"/>
                </a:solidFill>
                <a:latin typeface="Aharoni"/>
                <a:ea typeface="Aharoni"/>
              </a:rPr>
              <a:t>differenti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support </a:t>
            </a:r>
            <a:r>
              <a:rPr b="0" lang="en-US" sz="2800" spc="-1" strike="noStrike">
                <a:solidFill>
                  <a:srgbClr val="e46c0a"/>
                </a:solidFill>
                <a:latin typeface="Aharoni"/>
                <a:ea typeface="Aharoni"/>
              </a:rPr>
              <a:t>authentic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tasks and audienc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haroni"/>
                <a:ea typeface="Aharoni"/>
              </a:rPr>
              <a:t>connect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kids to other kids? To exper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old tech practices should we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jettison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C:\Users\Valued Customer\AppData\Local\Microsoft\Windows\Temporary Internet Files\Content.IE5\1QJSI587\MPj04308400000[1].jpg"/>
          <p:cNvPicPr/>
          <p:nvPr/>
        </p:nvPicPr>
        <p:blipFill>
          <a:blip r:embed="rId1"/>
          <a:stretch/>
        </p:blipFill>
        <p:spPr>
          <a:xfrm>
            <a:off x="2362320" y="0"/>
            <a:ext cx="4570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Valued Customer\AppData\Local\Microsoft\Windows\Temporary Internet Files\Content.IE5\PM4R9IVN\MPj04118110000[1].jpg"/>
          <p:cNvPicPr/>
          <p:nvPr/>
        </p:nvPicPr>
        <p:blipFill>
          <a:blip r:embed="rId1"/>
          <a:stretch/>
        </p:blipFill>
        <p:spPr>
          <a:xfrm>
            <a:off x="4572000" y="3240"/>
            <a:ext cx="4572000" cy="6854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380880" y="844560"/>
            <a:ext cx="3581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What will </a:t>
            </a:r>
            <a:r>
              <a:rPr b="0" lang="en-US" sz="4000" spc="-1" strike="noStrike">
                <a:solidFill>
                  <a:srgbClr val="c00000"/>
                </a:solidFill>
                <a:latin typeface="Aharoni"/>
                <a:ea typeface="Aharoni"/>
              </a:rPr>
              <a:t>motivate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kids to do better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What’s </a:t>
            </a:r>
            <a:r>
              <a:rPr b="0" lang="en-US" sz="4000" spc="-1" strike="noStrike">
                <a:solidFill>
                  <a:srgbClr val="c00000"/>
                </a:solidFill>
                <a:latin typeface="Aharoni"/>
                <a:ea typeface="Aharoni"/>
              </a:rPr>
              <a:t>in it 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for the k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Valued Customer\AppData\Local\Microsoft\Windows\Temporary Internet Files\Content.IE5\PM4R9IVN\MPj04388110000[1].jpg"/>
          <p:cNvPicPr/>
          <p:nvPr/>
        </p:nvPicPr>
        <p:blipFill>
          <a:blip r:embed="rId1"/>
          <a:stretch/>
        </p:blipFill>
        <p:spPr>
          <a:xfrm>
            <a:off x="-114300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0" y="152280"/>
            <a:ext cx="8915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haroni"/>
                <a:ea typeface="Aharoni"/>
              </a:rPr>
              <a:t>What will your children, grandchildren, nieces, nephews, or students need to know and be able to do to thrive in the futu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C:\Users\Valued Customer\AppData\Local\Microsoft\Windows\Temporary Internet Files\Content.IE5\1QJSI587\MPj04394410000[1].jpg"/>
          <p:cNvPicPr/>
          <p:nvPr/>
        </p:nvPicPr>
        <p:blipFill>
          <a:blip r:embed="rId1"/>
          <a:stretch/>
        </p:blipFill>
        <p:spPr>
          <a:xfrm>
            <a:off x="1219320" y="2441520"/>
            <a:ext cx="6613560" cy="4416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0" y="-36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ow do we develop </a:t>
            </a:r>
            <a:r>
              <a:rPr b="0" lang="en-US" sz="2800" spc="-1" strike="noStrike">
                <a:solidFill>
                  <a:srgbClr val="ffc000"/>
                </a:solidFill>
                <a:latin typeface="Aharoni"/>
                <a:ea typeface="Aharoni"/>
              </a:rPr>
              <a:t>responsibility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in stud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ow do we help students develop </a:t>
            </a:r>
            <a:br>
              <a:rPr sz="2800"/>
            </a:br>
            <a:r>
              <a:rPr b="0" lang="en-US" sz="2800" spc="-1" strike="noStrike">
                <a:solidFill>
                  <a:srgbClr val="ffc000"/>
                </a:solidFill>
                <a:latin typeface="Aharoni"/>
                <a:ea typeface="Aharoni"/>
              </a:rPr>
              <a:t>self-assessment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skil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ow will we help students develop </a:t>
            </a:r>
            <a:r>
              <a:rPr b="0" lang="en-US" sz="2800" spc="-1" strike="noStrike">
                <a:solidFill>
                  <a:srgbClr val="ffc000"/>
                </a:solidFill>
                <a:latin typeface="Aharoni"/>
                <a:ea typeface="Aharoni"/>
              </a:rPr>
              <a:t>flexible mindsets 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for problem-solv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4191120" y="4952880"/>
            <a:ext cx="4495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ontent Placeholder 2"/>
          <p:cNvSpPr/>
          <p:nvPr/>
        </p:nvSpPr>
        <p:spPr>
          <a:xfrm>
            <a:off x="-228600" y="5334120"/>
            <a:ext cx="5105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304920" y="533520"/>
            <a:ext cx="579096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haroni"/>
                <a:ea typeface="Aharoni"/>
              </a:rPr>
              <a:t>NEW PARADIGM: PLANNING FOR AN UNCERTAIN FUTU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Acquisition of information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Thinking skills+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Flexible work habits 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Personal investment 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Means of sharing thinking 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____________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su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562720" y="76320"/>
            <a:ext cx="1112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http://flickr.com/photos/chanc/351615573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C:\Users\Valued Customer\AppData\Local\Microsoft\Windows\Temporary Internet Files\Content.IE5\EP8LUSS3\MPj04014100000[1].jpg"/>
          <p:cNvPicPr/>
          <p:nvPr/>
        </p:nvPicPr>
        <p:blipFill>
          <a:blip r:embed="rId1"/>
          <a:srcRect l="0" t="0" r="43078" b="0"/>
          <a:stretch/>
        </p:blipFill>
        <p:spPr>
          <a:xfrm>
            <a:off x="6022800" y="0"/>
            <a:ext cx="312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30064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5791320" y="2590920"/>
            <a:ext cx="3733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to be continu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5334120" y="6411960"/>
            <a:ext cx="102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3152"/>
                </a:solidFill>
                <a:latin typeface="Calibri"/>
              </a:rPr>
              <a:t>References list available upon requ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3152"/>
                </a:solidFill>
                <a:latin typeface="Calibri"/>
              </a:rPr>
              <a:t>Image: http://en.wikipedia.org/wiki/Image:Rosie_the_Riveter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font\AppData\Local\Microsoft\Windows\Temporary Internet Files\Content.IE5\RZG5UXHD\MPj04012890000[1].jpg"/>
          <p:cNvPicPr/>
          <p:nvPr/>
        </p:nvPicPr>
        <p:blipFill>
          <a:blip r:embed="rId1"/>
          <a:stretch/>
        </p:blipFill>
        <p:spPr>
          <a:xfrm>
            <a:off x="-1147680" y="0"/>
            <a:ext cx="10291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457200" y="0"/>
            <a:ext cx="4724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Like the politicians say, it’s time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chan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We hav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transfor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how and w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we te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26827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5105520" y="27432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Partnership for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haroni"/>
                <a:ea typeface="Aharon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Century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http://www.21stcenturyskill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-1523880" y="4495680"/>
            <a:ext cx="1295388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2065320" cy="266688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685800" y="6019920"/>
            <a:ext cx="7162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ASL Standards for the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haroni"/>
                <a:ea typeface="Aharon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-Century Lea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www.ala.org/aa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36003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TextBox 9"/>
          <p:cNvSpPr/>
          <p:nvPr/>
        </p:nvSpPr>
        <p:spPr>
          <a:xfrm>
            <a:off x="380880" y="2590920"/>
            <a:ext cx="3200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ISTE - NETS*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iste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4"/>
          <a:srcRect l="0" t="0" r="0" b="73339"/>
          <a:stretch/>
        </p:blipFill>
        <p:spPr>
          <a:xfrm>
            <a:off x="5638680" y="3886200"/>
            <a:ext cx="285768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5943600" y="5715000"/>
            <a:ext cx="7162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SCD Whol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Ascd.org or wholechildeducation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C:\Users\Valued Customer\AppData\Local\Microsoft\Windows\Temporary Internet Files\Content.IE5\1QJSI587\MPj04306150000[1].jpg"/>
          <p:cNvPicPr/>
          <p:nvPr/>
        </p:nvPicPr>
        <p:blipFill>
          <a:blip r:embed="rId1"/>
          <a:srcRect l="67902" t="0" r="0" b="31251"/>
          <a:stretch/>
        </p:blipFill>
        <p:spPr>
          <a:xfrm>
            <a:off x="5943600" y="3240"/>
            <a:ext cx="3200400" cy="685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2"/>
          <a:srcRect l="0" t="0" r="0" b="74252"/>
          <a:stretch/>
        </p:blipFill>
        <p:spPr>
          <a:xfrm>
            <a:off x="5943600" y="-1676520"/>
            <a:ext cx="2133720" cy="1098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-360" y="30456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Healthy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kids &amp; life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Intellectually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challenging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Physically &amp; emotionally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Connected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to school &amp;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Personalized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Qualified, caring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Prepared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for college/further study &amp; global environ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3"/>
          <a:srcRect l="0" t="0" r="0" b="73339"/>
          <a:stretch/>
        </p:blipFill>
        <p:spPr>
          <a:xfrm>
            <a:off x="7315200" y="0"/>
            <a:ext cx="18288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sp>
        <p:nvSpPr>
          <p:cNvPr id="69" name="Oval 2"/>
          <p:cNvSpPr/>
          <p:nvPr/>
        </p:nvSpPr>
        <p:spPr>
          <a:xfrm>
            <a:off x="6324480" y="1447920"/>
            <a:ext cx="1524240" cy="175248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cxnSp>
        <p:nvCxnSpPr>
          <p:cNvPr id="71" name="Straight Arrow Connector 3"/>
          <p:cNvCxnSpPr/>
          <p:nvPr/>
        </p:nvCxnSpPr>
        <p:spPr>
          <a:xfrm flipH="1" flipV="1">
            <a:off x="5562360" y="4876200"/>
            <a:ext cx="1372320" cy="1067400"/>
          </a:xfrm>
          <a:prstGeom prst="straightConnector1">
            <a:avLst/>
          </a:prstGeom>
          <a:ln w="88920">
            <a:solidFill>
              <a:srgbClr val="c0504d"/>
            </a:solidFill>
            <a:miter/>
            <a:tailEnd len="med" type="arrow" w="med"/>
          </a:ln>
        </p:spPr>
      </p:cxnSp>
      <p:grpSp>
        <p:nvGrpSpPr>
          <p:cNvPr id="72" name="TextBox 4"/>
          <p:cNvGrpSpPr/>
          <p:nvPr/>
        </p:nvGrpSpPr>
        <p:grpSpPr>
          <a:xfrm>
            <a:off x="-201600" y="5735520"/>
            <a:ext cx="9401040" cy="1195560"/>
            <a:chOff x="-201600" y="5735520"/>
            <a:chExt cx="9401040" cy="1195560"/>
          </a:xfrm>
        </p:grpSpPr>
        <p:pic>
          <p:nvPicPr>
            <p:cNvPr id="73" name="TextBox 4" descr=""/>
            <p:cNvPicPr/>
            <p:nvPr/>
          </p:nvPicPr>
          <p:blipFill>
            <a:blip r:embed="rId2"/>
            <a:stretch/>
          </p:blipFill>
          <p:spPr>
            <a:xfrm>
              <a:off x="-201600" y="5735520"/>
              <a:ext cx="9401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0" y="5842080"/>
              <a:ext cx="9144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</a:rPr>
                <a:t>How will BPS address this for all teachers? How can we address this for one another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rcRect l="59054" t="64466" r="13339" b="0"/>
          <a:stretch/>
        </p:blipFill>
        <p:spPr>
          <a:xfrm>
            <a:off x="5029200" y="3657600"/>
            <a:ext cx="2209680" cy="2227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rcRect l="35246" t="34053" r="15238" b="34334"/>
          <a:stretch/>
        </p:blipFill>
        <p:spPr>
          <a:xfrm>
            <a:off x="3124080" y="1752480"/>
            <a:ext cx="3962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9:29:49Z</dcterms:created>
  <dc:creator>Kristin Fontichiaro</dc:creator>
  <dc:description/>
  <dc:language>en-US</dc:language>
  <cp:lastModifiedBy>Kristin Fontichiaro</cp:lastModifiedBy>
  <dcterms:modified xsi:type="dcterms:W3CDTF">2008-11-05T02:35:08Z</dcterms:modified>
  <cp:revision>121</cp:revision>
  <dc:subject/>
  <dc:title>Thinking Thoughtfully About Technology and Standards</dc:title>
</cp:coreProperties>
</file>